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89.xml" ContentType="application/vnd.openxmlformats-officedocument.presentationml.notesSlide+xml"/>
  <Override PartName="/ppt/notesSlides/notesSlide29.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84.xml" ContentType="application/vnd.openxmlformats-officedocument.presentationml.notesSlide+xml"/>
  <Override PartName="/ppt/notesSlides/notesSlide72.xml" ContentType="application/vnd.openxmlformats-officedocument.presentationml.notesSlide+xml"/>
  <Override PartName="/ppt/notesSlides/notesSlide83.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4.png" ContentType="image/png"/>
  <Override PartName="/ppt/media/image17.wmf" ContentType="image/x-wmf"/>
  <Override PartName="/ppt/media/image16.wmf" ContentType="image/x-wmf"/>
  <Override PartName="/ppt/media/image5.png" ContentType="image/png"/>
  <Override PartName="/ppt/media/image3.png" ContentType="image/png"/>
  <Override PartName="/ppt/media/image4.png" ContentType="image/png"/>
  <Override PartName="/ppt/media/image6.png" ContentType="image/png"/>
  <Override PartName="/ppt/media/image11.png" ContentType="image/png"/>
  <Override PartName="/ppt/media/image10.wmf" ContentType="image/x-wmf"/>
  <Override PartName="/ppt/media/image2.png" ContentType="image/png"/>
  <Override PartName="/ppt/media/image1.jpeg" ContentType="image/jpe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0DCF-3F16-4205-816E-9960D0633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6D8B-CE72-4587-A7D5-352C4A5EB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15A6-ED6E-418B-9D22-1DE9536F0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C56B14A-540F-4011-8049-145C6DD32F0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FBA3203-2D1D-4D10-9934-634AD783F092}"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E7C10F3-9BB7-461C-A99C-1D3D96DC231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729DE75-0E8C-443F-B306-6BC15852824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56E1DD0-D3C8-4AD9-B6E9-D4CB0BD0612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971017C-8D16-4C9C-B010-202BAEC2B327}"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8915974-506F-41EC-AB7F-21175646E03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915D864-7FFC-4FFB-B192-0C353AA7A83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A1D9337-068C-4211-A505-33648053201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2B905C3-1F13-4ADB-9DC7-3398077D203F}"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B207FF1-F2FC-41E8-BBF5-44DC849D8A3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258F1D6-5407-4AEF-8FA1-BC028917DAB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980E89B-64C7-43EF-90F3-D7D415668148}"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906065C-1E5C-4C4A-BD1C-C4CBC9A1B51D}"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C08D3AD-FF17-4F33-8846-B7180B644A0A}"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8DAC378-F989-43BA-B26D-12A36D6B97BA}"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9E4373B-D9F7-48CB-8991-980E7EBFBFAB}"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F1241C9-B2B7-461A-9AE4-6C7FC80E928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BCB1689-1CE9-4458-B8A3-2FDFFC797048}"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647F7-CDF7-4933-BC69-41ACB37AA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A434-7BBC-4E61-B054-5D25F3E2B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50020-C0A2-4260-A701-85BB10836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40B82-442C-470E-9CCE-8E2E058BF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77BED-E621-4EE1-9609-81DF61F7F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51182-AEFE-478E-AB6F-DE5EBA8BA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5947-FEE4-4E5B-B75B-41404CA47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6A62C-1D04-4972-A8FB-7D86421A1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B82F-FBBF-42A2-ABB2-ACAD0109D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8F77-8492-4E8F-B883-68C8DD26C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15AEF-E309-4A91-B2A7-2EABC5E96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87BE3-0085-409E-BE9A-2C8239554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5637-8F9F-4F2E-9643-9A61E2A73BE0}"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 result for training images"/>
          <p:cNvPicPr/>
          <p:nvPr/>
        </p:nvPicPr>
        <p:blipFill>
          <a:blip r:embed="rId1"/>
          <a:stretch/>
        </p:blipFill>
        <p:spPr>
          <a:xfrm>
            <a:off x="7920" y="198360"/>
            <a:ext cx="9029880" cy="6570720"/>
          </a:xfrm>
          <a:prstGeom prst="rect">
            <a:avLst/>
          </a:prstGeom>
          <a:ln w="0">
            <a:noFill/>
          </a:ln>
        </p:spPr>
      </p:pic>
      <p:sp>
        <p:nvSpPr>
          <p:cNvPr id="49" name="Rectangle 1"/>
          <p:cNvSpPr/>
          <p:nvPr/>
        </p:nvSpPr>
        <p:spPr>
          <a:xfrm>
            <a:off x="1981080" y="-76320"/>
            <a:ext cx="5791320" cy="14479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E-PROMOTION TRAINING</a:t>
            </a:r>
            <a:endParaRPr b="0" lang="en-US" sz="3600" spc="-1" strike="noStrike">
              <a:solidFill>
                <a:srgbClr val="000000"/>
              </a:solidFill>
              <a:latin typeface="Calibri"/>
            </a:endParaRPr>
          </a:p>
        </p:txBody>
      </p:sp>
      <p:sp>
        <p:nvSpPr>
          <p:cNvPr id="50" name="TextBox 2"/>
          <p:cNvSpPr/>
          <p:nvPr/>
        </p:nvSpPr>
        <p:spPr>
          <a:xfrm>
            <a:off x="4572000" y="1523880"/>
            <a:ext cx="2362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PROMOTION EXERCISE 2024-25 FOR OFFICERS  – EXAM DATE 14/12/2024</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HR &amp; LEGAL</a:t>
            </a:r>
            <a:endParaRPr b="0" lang="en-US" sz="1800" spc="-1" strike="noStrike">
              <a:solidFill>
                <a:srgbClr val="000000"/>
              </a:solidFill>
              <a:latin typeface="Calibri"/>
            </a:endParaRPr>
          </a:p>
        </p:txBody>
      </p:sp>
      <p:sp>
        <p:nvSpPr>
          <p:cNvPr id="51" name="TextBox 2"/>
          <p:cNvSpPr/>
          <p:nvPr/>
        </p:nvSpPr>
        <p:spPr>
          <a:xfrm>
            <a:off x="7086600" y="6553080"/>
            <a:ext cx="1905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Updated 16/11/2024</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240" y="152280"/>
            <a:ext cx="84582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etment (to encourage, approve, support) of or attempt of abetment of any act which amounts to misconduc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haring of computer passwo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ny wrongful/illegal activity committed through the use of computer / internet and/or violation of provisions of the Information Technology Act, 2000 (amendments thereto) / IT policy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dulging of any sexual harassment of women at workpla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or consuming of or being under the influence of narcotics or drugs in the premises of the compan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692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Light"/>
              </a:rPr>
              <a:t>Conveyance Scheme 2011</a:t>
            </a:r>
            <a:endParaRPr b="0" lang="en-US" sz="3600" spc="-1" strike="noStrike">
              <a:solidFill>
                <a:srgbClr val="000000"/>
              </a:solidFill>
              <a:latin typeface="Calibri Light"/>
            </a:endParaRPr>
          </a:p>
        </p:txBody>
      </p:sp>
      <p:pic>
        <p:nvPicPr>
          <p:cNvPr id="240" name="Picture 2" descr=""/>
          <p:cNvPicPr/>
          <p:nvPr/>
        </p:nvPicPr>
        <p:blipFill>
          <a:blip r:embed="rId1"/>
          <a:stretch/>
        </p:blipFill>
        <p:spPr>
          <a:xfrm>
            <a:off x="304920" y="844560"/>
            <a:ext cx="8610480" cy="601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2" name="Picture 2" descr=""/>
          <p:cNvPicPr/>
          <p:nvPr/>
        </p:nvPicPr>
        <p:blipFill>
          <a:blip r:embed="rId1"/>
          <a:stretch/>
        </p:blipFill>
        <p:spPr>
          <a:xfrm>
            <a:off x="838080" y="0"/>
            <a:ext cx="7315200" cy="3373560"/>
          </a:xfrm>
          <a:prstGeom prst="rect">
            <a:avLst/>
          </a:prstGeom>
          <a:ln w="0">
            <a:noFill/>
          </a:ln>
        </p:spPr>
      </p:pic>
      <p:pic>
        <p:nvPicPr>
          <p:cNvPr id="243" name="Picture 3" descr=""/>
          <p:cNvPicPr/>
          <p:nvPr/>
        </p:nvPicPr>
        <p:blipFill>
          <a:blip r:embed="rId2"/>
          <a:stretch/>
        </p:blipFill>
        <p:spPr>
          <a:xfrm>
            <a:off x="228600" y="3581280"/>
            <a:ext cx="8458200" cy="30387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6840" y="151920"/>
            <a:ext cx="8458200" cy="6324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Tyre/tube replacement – 40 months or 32000 whichever is earli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5" name="Picture 2" descr=""/>
          <p:cNvPicPr/>
          <p:nvPr/>
        </p:nvPicPr>
        <p:blipFill>
          <a:blip r:embed="rId1"/>
          <a:stretch/>
        </p:blipFill>
        <p:spPr>
          <a:xfrm>
            <a:off x="457200" y="5335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860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rief Ca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ce in 3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o all Officers including probationers/promote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amount is inclusive of G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47" name=""/>
          <p:cNvGraphicFramePr/>
          <p:nvPr/>
        </p:nvGraphicFramePr>
        <p:xfrm>
          <a:off x="1295280" y="914400"/>
          <a:ext cx="6096240" cy="18543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cal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Amount</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VI and abov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5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V and 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4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I and 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3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Scale 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Rs.2000</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Group Mediclaim Policy</a:t>
            </a:r>
            <a:endParaRPr b="0" lang="en-US" sz="3300" spc="-1" strike="noStrike">
              <a:solidFill>
                <a:srgbClr val="000000"/>
              </a:solidFill>
              <a:latin typeface="Calibri Light"/>
            </a:endParaRPr>
          </a:p>
        </p:txBody>
      </p:sp>
      <p:sp>
        <p:nvSpPr>
          <p:cNvPr id="249" name=""/>
          <p:cNvSpPr txBox="1"/>
          <p:nvPr/>
        </p:nvSpPr>
        <p:spPr>
          <a:xfrm>
            <a:off x="457200" y="762120"/>
            <a:ext cx="8229600" cy="536400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rimary insured person – Service / retired / spouse of deceased employee / spouse of retired and deceased employee</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Deemed primary insured person – Existing or retired whole time Director or spouse of retired and deceased whole time Director</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Limit upto Rs.50 lakhs (For Deemed primary insured person – No limit)</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Wef 01/10/2017 independent parents and independent parents-in-law are also covered</a:t>
            </a:r>
            <a:endParaRPr b="0" lang="en-US" sz="22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PA to be included to decide on the eligibility sum insured</a:t>
            </a:r>
            <a:endParaRPr b="0" lang="en-US" sz="2200" spc="-1" strike="noStrike">
              <a:solidFill>
                <a:srgbClr val="000000"/>
              </a:solidFill>
              <a:latin typeface="Calibri"/>
            </a:endParaRPr>
          </a:p>
        </p:txBody>
      </p:sp>
      <p:graphicFrame>
        <p:nvGraphicFramePr>
          <p:cNvPr id="250" name=""/>
          <p:cNvGraphicFramePr/>
          <p:nvPr/>
        </p:nvGraphicFramePr>
        <p:xfrm>
          <a:off x="1523880" y="2590920"/>
          <a:ext cx="6096240" cy="1752480"/>
        </p:xfrm>
        <a:graphic>
          <a:graphicData uri="http://schemas.openxmlformats.org/drawingml/2006/table">
            <a:tbl>
              <a:tblPr/>
              <a:tblGrid>
                <a:gridCol w="3048120"/>
                <a:gridCol w="304812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 (1/4/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crease in sum insured slab – once in 3 years (except promotion, new additions like marriage, etc to next higher slab).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oom Rent cap – 1% of SI upto Rs.10 lakhs and 0.50% beyond Rs.10 lakhs where CCA is payable (Rs.15000 max) &amp; 0.75% of SI upto Rs.10 lakhs and 0.50% beyond Rs.10 lakhs for other cities (Rs.12500 max)</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Ambulance charges – Rs.5000 per hospitalisation</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 A Class city – Rs.50000 and others Rs.40000</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C-section – A Class city – Rs.1 lakh and others Rs.65000</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Free medical check up – Once in every block of 4 claim free years – 1% of SI subject to a maximum of Rs.5000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Domiciliary treatment – 20% subject to a maximum of Rs.50000 except Oral Chemotherapy and Peritoneal Dialysis which is 50% of SI subject to a maximum of Rs.5 lakhs </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Maternity benefits will be available to all the beneficiaries without any waiting period</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remium rates of independent children of retired employees and their family members will be the same as applicable to serving employees</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ontent Placeholder 2"/>
          <p:cNvSpPr/>
          <p:nvPr/>
        </p:nvSpPr>
        <p:spPr>
          <a:xfrm>
            <a:off x="457200" y="152280"/>
            <a:ext cx="8229600" cy="6172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Content Placeholder 2"/>
          <p:cNvSpPr/>
          <p:nvPr/>
        </p:nvSpPr>
        <p:spPr>
          <a:xfrm>
            <a:off x="609480" y="304920"/>
            <a:ext cx="8229600" cy="617220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crease in the optional sum insured to the immediately lower slab is permitted only in the event of decrease in family size on account of death / exit of an insured family member from the scheme with effect from the next renewal date following the date of the event.</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if there is a revision in premium, member may be allowed for decreasing the optional sum insured to any lower slab but not lower than the eligible sum insured.</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amount for purchase of pulse oxymeter upto Rs.2000/- if primary / deemed primary member or family members diagonised covid positive and treated at home on submission of claim form along with corona positive report and prescription from treating Doctor and invoice. (Per family one pulse oxymet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Reimbursement of cost of vaccination upto Rs.250/- per dose subject to production of original receipt.(settlement at Operating Office itself and not under GM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51920"/>
            <a:ext cx="8229600" cy="61722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ortability – Allowed for dependent / independent family members with any of the PSGIC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Coverage for newly recruited employees – Can enroll at the time of joining by giving in writing in regard to dependent / independent family members within 60 days from the date of joining</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ime-limit to enroll newly married spouse and his/her dependent / independent parents-in-law – within 60 days from the date of marriage. New born child after 3 months cover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Restriction of selection covering parents / parents-in-law – If both the parents / parents-in-law are alive enrolling either of the parents / parents-in-law shall not be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pting lower sum insured after the death of employee/retired employee is allowed</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nrollment of child returned from abroad – Allowed once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00% premium borne by Company upto eligible SI for S/S, FTS, PTS wef 01/04/2018</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ITPA – Health Insurance TPA of India Ltd</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685800"/>
            <a:ext cx="8229600" cy="5440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tinuance of coverage for Staff GMC for the following insured members even after the death of  employee and/or spouse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case of death of an insured member covered under staff GMC policy and there is no claim in respect of such insured member during the policy period, pro-rata period for the period from the month following the death of the insured member may be stopped from the salary in case of serving employees and in respect of retired employee the refund from the month following the death of the insured member may be giv</a:t>
            </a:r>
            <a:r>
              <a:rPr b="0" lang="en-US" sz="2400" spc="-1" strike="noStrike">
                <a:solidFill>
                  <a:srgbClr val="000000"/>
                </a:solidFill>
                <a:latin typeface="Calibri"/>
              </a:rPr>
              <a:t>en (wef 01/11/22)</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56" name="Picture 3" descr=""/>
          <p:cNvPicPr/>
          <p:nvPr/>
        </p:nvPicPr>
        <p:blipFill>
          <a:blip r:embed="rId1"/>
          <a:stretch/>
        </p:blipFill>
        <p:spPr>
          <a:xfrm>
            <a:off x="322200" y="2136600"/>
            <a:ext cx="8593200" cy="22068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228600"/>
            <a:ext cx="8458200" cy="6477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ssionate grounds appoint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01/11/2014 (death of employee on or after 01/11/2014)</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verage – To dependent family member of employee died while in service (including employee death by suicide) or retired on medical grounds due to incapacitation before reaching the age of 55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pendent family member – spouse/wholly dependent son/wholly dependent daughter/wholly dependent brother or sister for unmarried 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ts – Clerical or Sub-Staff cadres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s – Upper age limit relaxed.  Age eligibility is based  on date of application. Spouse no upper age limit. Non-spouse – max 35 years or as per recruitment rules.  Lower age – Not below 18 y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ime limit – 5 years from the date of de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28600"/>
            <a:ext cx="8229600" cy="5897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5 – Scope of an employee’s service (24 X 7)</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6 – Employees not to seek outside employment (incl. honorar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7 – Part-time work (after Office hou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8 – Obligation to maintain secrecy – during service or after retirement or resignation or dischar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9 – Evidence before committee or any other authority with previous sanction of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0 – Prohibition against participation in politics and contesting for election by filing for nomin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1" i="1" lang="en-US" sz="2400" spc="-1" strike="noStrike">
                <a:solidFill>
                  <a:srgbClr val="002060"/>
                </a:solidFill>
                <a:latin typeface="Calibri"/>
              </a:rPr>
              <a:t>The display by an employee on his personal vehicle or residence, of any electoral symbol shall amount to using his influence in connection with an election within the meaning of any sub-rul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1 – Participation in demon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dow appointment on compassionate grounds  upon re-marriage will be allowed to continue in service even after re-marri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ssing employee – Cases of missing employee are also covered, after lapse of 2 years from the date of missing provided FIR is lodged, non- traceable.  This will not apply to an employee who has less than two years to retire or suspected to have committed fraud, joined terrorist organisation or gone abroa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here there is earning member – Spouse earning more than gross, application will be rejected. Otherwise he/she should resign the present job.  Spouse earning less than gross, application from other dependents can be consider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aximum 5% of vacancies falling  under direct recruitment quo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51920" y="15228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ducation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 01/04/2016</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5 years of service (Ex-servicemen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covering expenses like admission fee (excluding capitation fee), tuition fee, non-refundable charges payable to hostel perused in India / Abroa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ntum and frequency of advance – Maximum Rs.10 lakhs for each child and for maximum of 2 children during entire serv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may be granted in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for maximum two courses can be granted per chil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of loan is permitt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8% for boys or 7.8% for girls stud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vance shall not be granted to suspended / Extraordinary LOP/disciplinary action is contempl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560" y="152280"/>
            <a:ext cx="8381880" cy="64771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TIS COVER (introduced in the year 1997)</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wef  01/12/2024 (Renewal date 1</a:t>
            </a:r>
            <a:r>
              <a:rPr b="0" lang="en-US" sz="2400" spc="-1" strike="noStrike" baseline="30000">
                <a:solidFill>
                  <a:srgbClr val="000000"/>
                </a:solidFill>
                <a:latin typeface="Calibri"/>
              </a:rPr>
              <a:t>st</a:t>
            </a:r>
            <a:r>
              <a:rPr b="0" lang="en-US" sz="2400" spc="-1" strike="noStrike">
                <a:solidFill>
                  <a:srgbClr val="000000"/>
                </a:solidFill>
                <a:latin typeface="Calibri"/>
              </a:rPr>
              <a:t> December ever year)</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e : NPS employees are also eligible to opt for GTIS as one time option.</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are not covered under Pension Scheme / NPS are not eligible to opt.</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encement dated for newly joined 01/09/2019.  </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s who join on or after 23/07/2019 are compulsorily eligible.  Existing members cannot opt out of the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261" name=""/>
          <p:cNvGraphicFramePr/>
          <p:nvPr/>
        </p:nvGraphicFramePr>
        <p:xfrm>
          <a:off x="1523880" y="1073160"/>
          <a:ext cx="5715000" cy="2835360"/>
        </p:xfrm>
        <a:graphic>
          <a:graphicData uri="http://schemas.openxmlformats.org/drawingml/2006/table">
            <a:tbl>
              <a:tblPr/>
              <a:tblGrid>
                <a:gridCol w="1905120"/>
                <a:gridCol w="1905120"/>
                <a:gridCol w="1904760"/>
              </a:tblGrid>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Basic Pay Range (Revis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6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 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7 BONUS</a:t>
            </a:r>
            <a:endParaRPr b="0" lang="en-US" sz="3300" spc="-1" strike="noStrike">
              <a:solidFill>
                <a:srgbClr val="000000"/>
              </a:solidFill>
              <a:latin typeface="Calibri Light"/>
            </a:endParaRPr>
          </a:p>
        </p:txBody>
      </p:sp>
      <p:sp>
        <p:nvSpPr>
          <p:cNvPr id="26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ligibility-minimum 30 days worked in a yea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asic+da less than 21,000- normal salary.If lop-reduced salary –not eligibl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yment:basic+da –max:7000</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lop proportionately reduce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26 MEDICAL CHECK UP</a:t>
            </a:r>
            <a:endParaRPr b="0" lang="en-US" sz="3300" spc="-1" strike="noStrike">
              <a:solidFill>
                <a:srgbClr val="000000"/>
              </a:solidFill>
              <a:latin typeface="Calibri Light"/>
            </a:endParaRPr>
          </a:p>
        </p:txBody>
      </p:sp>
      <p:sp>
        <p:nvSpPr>
          <p:cNvPr id="26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cale iv &amp;abov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00 per check up wef 01/01/2017</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Upto 50 years-one time</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50-55 yrs-two time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bove 55-two tim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1 GRATUITY</a:t>
            </a:r>
            <a:endParaRPr b="0" lang="en-US" sz="3300" spc="-1" strike="noStrike">
              <a:solidFill>
                <a:srgbClr val="000000"/>
              </a:solidFill>
              <a:latin typeface="Calibri Light"/>
            </a:endParaRPr>
          </a:p>
        </p:txBody>
      </p:sp>
      <p:sp>
        <p:nvSpPr>
          <p:cNvPr id="267" name=""/>
          <p:cNvSpPr txBox="1"/>
          <p:nvPr/>
        </p:nvSpPr>
        <p:spPr>
          <a:xfrm>
            <a:off x="380880" y="1371600"/>
            <a:ext cx="8305920" cy="41911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shall be payable on termination of employment of an employee after he ha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ndered to the Company, continuous service for not less than five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superannu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voluntary retirement/resignation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death or disablement due to accident or diseases o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n termination (other than Vigilance) of service by the Corporation or the Compa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2 GRATUITY</a:t>
            </a:r>
            <a:endParaRPr b="0" lang="en-US" sz="3300" spc="-1" strike="noStrike">
              <a:solidFill>
                <a:srgbClr val="000000"/>
              </a:solidFill>
              <a:latin typeface="Calibri Light"/>
            </a:endParaRPr>
          </a:p>
        </p:txBody>
      </p:sp>
      <p:sp>
        <p:nvSpPr>
          <p:cNvPr id="26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o. of completed years of service  &amp; Rate of gratuity for each year  of service (R) (To be taken for calculatio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Upto 11 years  50% of Basic Pay last drawn</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2 years 6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3 years 70%</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4 years 8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15 years or more 100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ervice up to 30 years, maximum 15 months Basic Pay is payable. Additional gratuity @ ½ month’s Basic Pay is payable for each completed year of service beyond 30 years.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4 GRATUITY(clerical)</a:t>
            </a:r>
            <a:endParaRPr b="0" lang="en-US" sz="3300" spc="-1" strike="noStrike">
              <a:solidFill>
                <a:srgbClr val="000000"/>
              </a:solidFill>
              <a:latin typeface="Calibri Light"/>
            </a:endParaRPr>
          </a:p>
        </p:txBody>
      </p:sp>
      <p:sp>
        <p:nvSpPr>
          <p:cNvPr id="271" name=""/>
          <p:cNvSpPr txBox="1"/>
          <p:nvPr/>
        </p:nvSpPr>
        <p:spPr>
          <a:xfrm>
            <a:off x="457200" y="1295280"/>
            <a:ext cx="8229600" cy="45259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u="sng">
                <a:solidFill>
                  <a:srgbClr val="000000"/>
                </a:solidFill>
                <a:uFillTx/>
                <a:latin typeface="Calibri"/>
              </a:rPr>
              <a:t>Under Act:</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600" spc="-1" strike="noStrike">
                <a:solidFill>
                  <a:srgbClr val="000000"/>
                </a:solidFill>
                <a:latin typeface="Calibri"/>
              </a:rPr>
              <a:t>Wages </a:t>
            </a:r>
            <a:r>
              <a:rPr b="1" i="1" lang="en-US" sz="2600" spc="-1" strike="noStrike">
                <a:solidFill>
                  <a:srgbClr val="000000"/>
                </a:solidFill>
                <a:latin typeface="Calibri"/>
              </a:rPr>
              <a:t>X 15 /26  X No. of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u="sng">
                <a:solidFill>
                  <a:srgbClr val="000000"/>
                </a:solidFill>
                <a:uFillTx/>
                <a:latin typeface="Calibri"/>
              </a:rPr>
              <a:t>Under schem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1.Basic * 15 years (for first 15 years of service)</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2. Basic/2 * years in excess of 15 years</a:t>
            </a:r>
            <a:endParaRPr b="0" lang="en-US" sz="26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Calibri"/>
              </a:rPr>
              <a:t>Total = 1+2 = not exceeding 20 months basic</a:t>
            </a:r>
            <a:endParaRPr b="0" lang="en-US" sz="26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Under Scheme – Basic – basic +  FP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rPr>
              <a:t>       </a:t>
            </a:r>
            <a:r>
              <a:rPr b="0" lang="en-US" sz="1700" spc="-1" strike="noStrike">
                <a:solidFill>
                  <a:srgbClr val="000000"/>
                </a:solidFill>
                <a:latin typeface="Calibri"/>
              </a:rPr>
              <a:t>Under Act   -        wages – basic +FPA + DA</a:t>
            </a:r>
            <a:endParaRPr b="0" lang="en-US" sz="17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te : Only commuted value of pension (for pension optees) or Company’s contribution to PF / Gratuity shall be withheld by the Company till vacation of the company’s accommodation by the employees/family. </a:t>
            </a:r>
            <a:endParaRPr b="0" lang="en-US" sz="22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31.3 GRATUITY -officers</a:t>
            </a:r>
            <a:endParaRPr b="0" lang="en-US" sz="3300" spc="-1" strike="noStrike">
              <a:solidFill>
                <a:srgbClr val="000000"/>
              </a:solidFill>
              <a:latin typeface="Calibri Light"/>
            </a:endParaRPr>
          </a:p>
        </p:txBody>
      </p:sp>
      <p:sp>
        <p:nvSpPr>
          <p:cNvPr id="273"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u="sng">
                <a:solidFill>
                  <a:srgbClr val="000000"/>
                </a:solidFill>
                <a:uFillTx/>
                <a:latin typeface="Calibri"/>
              </a:rPr>
              <a:t>Under scheme</a:t>
            </a:r>
            <a:r>
              <a:rPr b="0" lang="en-US" sz="1800" spc="-1" strike="noStrike">
                <a:solidFill>
                  <a:srgbClr val="000000"/>
                </a:solidFill>
                <a:latin typeface="Calibri"/>
              </a:rPr>
              <a:t>: (a) GRATUITY AMOUNT FOR SERVICE UP TO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 </a:t>
            </a:r>
            <a:r>
              <a:rPr b="1" i="1" lang="en-US" sz="1800" spc="-1" strike="noStrike">
                <a:solidFill>
                  <a:srgbClr val="000000"/>
                </a:solidFill>
                <a:latin typeface="Calibri"/>
              </a:rPr>
              <a:t>X No. of yrs of service X  R*</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max. 15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 GRATUITY AMOUNT FOR SERVICE OVER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Basic Pay/2    </a:t>
            </a:r>
            <a:r>
              <a:rPr b="1" i="1" lang="en-US" sz="1800" spc="-1" strike="noStrike">
                <a:solidFill>
                  <a:srgbClr val="000000"/>
                </a:solidFill>
                <a:latin typeface="Calibri"/>
              </a:rPr>
              <a:t>X Years in excess of 30 years</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tuity Amount as per Rationalization Scheme : a + b</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 means Rate of Gratuity as given above (For service more than 15 years, limi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number of years to 15)</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u="sng">
                <a:solidFill>
                  <a:srgbClr val="000000"/>
                </a:solidFill>
                <a:uFillTx/>
                <a:latin typeface="Calibri"/>
              </a:rPr>
              <a:t>Under Act:</a:t>
            </a:r>
            <a:endParaRPr b="0" lang="en-US" sz="1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800" spc="-1" strike="noStrike">
                <a:solidFill>
                  <a:srgbClr val="000000"/>
                </a:solidFill>
                <a:latin typeface="Calibri"/>
              </a:rPr>
              <a:t>Wages </a:t>
            </a:r>
            <a:r>
              <a:rPr b="1" i="1" lang="en-US" sz="1800" spc="-1" strike="noStrike">
                <a:solidFill>
                  <a:srgbClr val="000000"/>
                </a:solidFill>
                <a:latin typeface="Calibri"/>
              </a:rPr>
              <a:t>X 15 /26  X No. of years of service</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Max. 20.00 lacs under Gratutiy Act)</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Scheme – Basic – basic +  FPA</a:t>
            </a:r>
            <a:endParaRPr b="0" lang="en-US" sz="18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Act   -        wages – basic +FPA + 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ENSION</a:t>
            </a:r>
            <a:endParaRPr b="0" lang="en-US" sz="4400" spc="-1" strike="noStrike">
              <a:solidFill>
                <a:srgbClr val="000000"/>
              </a:solidFill>
              <a:latin typeface="Calibri"/>
            </a:endParaRPr>
          </a:p>
        </p:txBody>
      </p:sp>
      <p:sp>
        <p:nvSpPr>
          <p:cNvPr id="275"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ypes of Pension –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uperannuation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ension on voluntary retirement</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valid Pension – Min 10 years, retires on account of any bodily or mental infirmity which permanently incapacitates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passionate Allowance – Employee dismissed or removed from service shall forfeit his pension, provided Competent Authority considers deserving sanction compassionate allowance not exceeding two-thirds of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amily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utation upto 1/3</a:t>
            </a:r>
            <a:r>
              <a:rPr b="1" lang="en-US" sz="2000" spc="-1" strike="noStrike" baseline="30000">
                <a:solidFill>
                  <a:srgbClr val="000000"/>
                </a:solidFill>
                <a:latin typeface="Calibri"/>
                <a:ea typeface="Arial"/>
              </a:rPr>
              <a:t>rd</a:t>
            </a:r>
            <a:r>
              <a:rPr b="1" lang="en-US" sz="2000" spc="-1" strike="noStrike">
                <a:solidFill>
                  <a:srgbClr val="000000"/>
                </a:solidFill>
                <a:latin typeface="Calibri"/>
                <a:ea typeface="Arial"/>
              </a:rPr>
              <a:t> is applicable for all except family pension and 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INIMUM PENSION – Rs.4070 (retired and/or died on or after 01/08/201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52280"/>
            <a:ext cx="8229600" cy="59738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2 – Connection with Press and Radio – prior sanction to be obtained by the employee, except contribution is occasional, purely literary, artistic or scientific character, statement made by Office-bearers of registered trade union</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3 – Acceptance of gifts – gift shall include free transport, boarding, lodging, etc – gifts from relatives – Rs.10000/-, personal friends – Rs.7000/- and others – Rs.5000/-(if from same person gift received is more than once in the same year, should inform Competent Authority) if aggregate value exceeds Rs.5000/-</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ule 14 – Private trading – Employee or his relatives shall not act as an insurance agent (Relatives means spouse, dependent children/dependent step children residing with the employee or no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5 – Speculation in stocks / shares – Frequent purchase and sale of stock, shares, securities or other investment shall be deemed to be speculation within the meaning of this rule</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ension Calculation</a:t>
            </a:r>
            <a:endParaRPr b="0" lang="en-US" sz="3300" spc="-1" strike="noStrike">
              <a:solidFill>
                <a:srgbClr val="000000"/>
              </a:solidFill>
              <a:latin typeface="Calibri Light"/>
            </a:endParaRPr>
          </a:p>
        </p:txBody>
      </p:sp>
      <p:graphicFrame>
        <p:nvGraphicFramePr>
          <p:cNvPr id="277" name=""/>
          <p:cNvGraphicFramePr/>
          <p:nvPr/>
        </p:nvGraphicFramePr>
        <p:xfrm>
          <a:off x="76320" y="1219320"/>
          <a:ext cx="4572000" cy="5427720"/>
        </p:xfrm>
        <a:graphic>
          <a:graphicData uri="http://schemas.openxmlformats.org/drawingml/2006/table">
            <a:tbl>
              <a:tblPr/>
              <a:tblGrid>
                <a:gridCol w="546120"/>
                <a:gridCol w="912600"/>
                <a:gridCol w="1006560"/>
                <a:gridCol w="639720"/>
                <a:gridCol w="784080"/>
                <a:gridCol w="682920"/>
              </a:tblGrid>
              <a:tr h="21096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UNITED INDIA INSURANCE COMPANY LIMITED</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5">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ENSION DEPARTMENT HEAD OFFICE CHENNAI</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939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XXXXXXXX</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EMP.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999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BIR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8/196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JOINING</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45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PRESENT OFFIC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COD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FFICE 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HEAD OFFIC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LOP DETAILS</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ATE OF EXI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DE OF EXI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RETIREMEN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88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S.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ON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BASIC PAY</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PA</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ug-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2</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l-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3</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u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4</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y-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p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Ma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eb-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096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Ja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Dec-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Nov-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95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11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VERAG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9305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graphicFrame>
        <p:nvGraphicFramePr>
          <p:cNvPr id="278" name=""/>
          <p:cNvGraphicFramePr/>
          <p:nvPr/>
        </p:nvGraphicFramePr>
        <p:xfrm>
          <a:off x="4876920" y="1276200"/>
          <a:ext cx="4114800" cy="5276880"/>
        </p:xfrm>
        <a:graphic>
          <a:graphicData uri="http://schemas.openxmlformats.org/drawingml/2006/table">
            <a:tbl>
              <a:tblPr/>
              <a:tblGrid>
                <a:gridCol w="490320"/>
                <a:gridCol w="822600"/>
                <a:gridCol w="906120"/>
                <a:gridCol w="574920"/>
                <a:gridCol w="706320"/>
                <a:gridCol w="614520"/>
              </a:tblGrid>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gridSpan="2">
                  <a:txBody>
                    <a:bodyPr lIns="0" rIns="0" tIns="0" bIns="0" anchor="b">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years 9 Months 11 day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pleted servic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4</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For pension calcul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3056</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3">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50% OF 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4652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YE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796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GE OF COMM</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r>
                        <a:rPr b="0" lang="en-US" sz="1100" spc="-1" strike="noStrike">
                          <a:solidFill>
                            <a:srgbClr val="000000"/>
                          </a:solidFill>
                          <a:latin typeface="Calibri"/>
                        </a:rPr>
                        <a:t>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3 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3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550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68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REVISED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1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A</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80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7595.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PENS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8614.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08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D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31/08/202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38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G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6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944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R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9.8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571320">
                <a:tc gridSpan="2">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COMMUTATION AMOUNT</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lgn="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182571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0" rIns="0" tIns="0" bIns="0" anchor="b">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85800"/>
            <a:ext cx="8229600" cy="5440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Automatic Pension coverage – Those joined on or after 28/06/1995 to 31/03/2010</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re appointed before 28/06/1995 are only eligible to join pension under this Scheme</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200" spc="-1" strike="noStrike">
                <a:solidFill>
                  <a:srgbClr val="000000"/>
                </a:solidFill>
                <a:latin typeface="Calibri"/>
              </a:rPr>
              <a:t>Employees who went on VRS under TSR Scheme, SVRS 2004, SVRP 2003, Golden Gate are also eligible to join provided they have put at least 20 years of qualifying service (notional benefit of max 5 years will not be given)</a:t>
            </a:r>
            <a:endParaRPr b="0" lang="en-US" sz="2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IN" sz="2400" spc="-1" strike="noStrike">
                <a:solidFill>
                  <a:srgbClr val="000000"/>
                </a:solidFill>
                <a:latin typeface="Calibri"/>
              </a:rPr>
              <a:t>  </a:t>
            </a:r>
            <a:r>
              <a:rPr b="1" lang="en-IN" sz="2400" spc="-1" strike="noStrike">
                <a:solidFill>
                  <a:srgbClr val="000000"/>
                </a:solidFill>
                <a:latin typeface="Calibri"/>
              </a:rPr>
              <a:t>Category          Effective Date of Pension / Family Pens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                      Pension – w.e.f. the date following the date o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Retire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III, IV               Family Pension – w.e.f. 23.04.2019</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Pre-1986 retirees – Medical Relief</a:t>
            </a:r>
            <a:endParaRPr b="0" lang="en-US" sz="3300" spc="-1" strike="noStrike">
              <a:solidFill>
                <a:srgbClr val="000000"/>
              </a:solidFill>
              <a:latin typeface="Calibri Light"/>
            </a:endParaRPr>
          </a:p>
        </p:txBody>
      </p:sp>
      <p:sp>
        <p:nvSpPr>
          <p:cNvPr id="281" name=""/>
          <p:cNvSpPr txBox="1"/>
          <p:nvPr/>
        </p:nvSpPr>
        <p:spPr>
          <a:xfrm>
            <a:off x="457200" y="1295280"/>
            <a:ext cx="8229600" cy="4525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ef  01/08/2022 – ex-gratia payable is and medical relief wef 01/01/2023</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82" name="Picture 3" descr=""/>
          <p:cNvPicPr/>
          <p:nvPr/>
        </p:nvPicPr>
        <p:blipFill>
          <a:blip r:embed="rId1"/>
          <a:stretch/>
        </p:blipFill>
        <p:spPr>
          <a:xfrm>
            <a:off x="1447920" y="2655720"/>
            <a:ext cx="6858000" cy="1001880"/>
          </a:xfrm>
          <a:prstGeom prst="rect">
            <a:avLst/>
          </a:prstGeom>
          <a:ln w="0">
            <a:noFill/>
          </a:ln>
        </p:spPr>
      </p:pic>
      <p:pic>
        <p:nvPicPr>
          <p:cNvPr id="283" name="Picture 4" descr=""/>
          <p:cNvPicPr/>
          <p:nvPr/>
        </p:nvPicPr>
        <p:blipFill>
          <a:blip r:embed="rId2"/>
          <a:stretch/>
        </p:blipFill>
        <p:spPr>
          <a:xfrm>
            <a:off x="1143000" y="4267080"/>
            <a:ext cx="7848720" cy="106704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option of uniform designation</a:t>
            </a:r>
            <a:endParaRPr b="0" lang="en-US" sz="3300" spc="-1" strike="noStrike">
              <a:solidFill>
                <a:srgbClr val="000000"/>
              </a:solidFill>
              <a:latin typeface="Calibri Light"/>
            </a:endParaRPr>
          </a:p>
        </p:txBody>
      </p:sp>
      <p:graphicFrame>
        <p:nvGraphicFramePr>
          <p:cNvPr id="285" name=""/>
          <p:cNvGraphicFramePr/>
          <p:nvPr/>
        </p:nvGraphicFramePr>
        <p:xfrm>
          <a:off x="628560" y="1825560"/>
          <a:ext cx="7886880" cy="2225880"/>
        </p:xfrm>
        <a:graphic>
          <a:graphicData uri="http://schemas.openxmlformats.org/drawingml/2006/table">
            <a:tbl>
              <a:tblPr/>
              <a:tblGrid>
                <a:gridCol w="2409840"/>
                <a:gridCol w="5477040"/>
              </a:tblGrid>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Incharge’s Designation</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Offic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hief Business Manager</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87480" rIns="8748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gional Manager – CBO/KBO also Head LCB</a:t>
                      </a:r>
                      <a:endParaRPr b="0" lang="en-US" sz="1800" spc="-1" strike="noStrike">
                        <a:solidFill>
                          <a:srgbClr val="000000"/>
                        </a:solidFill>
                        <a:latin typeface="Calibri"/>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QUERIES, IF ANY</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95288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THANK YOU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mp;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ALL THE BEST </a:t>
            </a:r>
            <a:endParaRPr b="0" lang="en-US" sz="4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800" spc="-1" strike="noStrike">
                <a:solidFill>
                  <a:srgbClr val="000000"/>
                </a:solidFill>
                <a:latin typeface="Calibri"/>
              </a:rPr>
              <a:t>FOR THE EXAM</a:t>
            </a:r>
            <a:endParaRPr b="0" lang="en-US" sz="48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B BHASKA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CHIEF MANAGER</a:t>
            </a:r>
            <a:endParaRPr b="0" lang="en-US" sz="2400" spc="-1" strike="noStrike">
              <a:solidFill>
                <a:srgbClr val="000000"/>
              </a:solidFill>
              <a:latin typeface="Calibri"/>
            </a:endParaRPr>
          </a:p>
          <a:p>
            <a:pPr algn="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f5597"/>
                </a:solidFill>
                <a:latin typeface="Calibri"/>
              </a:rPr>
              <a:t>HO – HEALTH DE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6 – Restriction on borrowing and invest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16 A – Submission of property returns – immovable property exceeds 2 months basic salary – Annual return before 30</a:t>
            </a:r>
            <a:r>
              <a:rPr b="0" i="1" lang="en-US" sz="2400" spc="-1" strike="noStrike" baseline="30000">
                <a:solidFill>
                  <a:srgbClr val="548235"/>
                </a:solidFill>
                <a:latin typeface="Calibri"/>
              </a:rPr>
              <a:t>th</a:t>
            </a:r>
            <a:r>
              <a:rPr b="0" i="1" lang="en-US" sz="2400" spc="-1" strike="noStrike">
                <a:solidFill>
                  <a:srgbClr val="548235"/>
                </a:solidFill>
                <a:latin typeface="Calibri"/>
              </a:rPr>
              <a:t> April –Transactions above 2 months basic salary to be reported within 30 days to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7 – Employees in debt – Employees who is in debt shall furnish to the competent authority half yearly statement – 31</a:t>
            </a:r>
            <a:r>
              <a:rPr b="0" lang="en-US" sz="2400" spc="-1" strike="noStrike" baseline="30000">
                <a:solidFill>
                  <a:srgbClr val="000000"/>
                </a:solidFill>
                <a:latin typeface="Calibri"/>
              </a:rPr>
              <a:t>st</a:t>
            </a:r>
            <a:r>
              <a:rPr b="0" lang="en-US" sz="2400" spc="-1" strike="noStrike">
                <a:solidFill>
                  <a:srgbClr val="000000"/>
                </a:solidFill>
                <a:latin typeface="Calibri"/>
              </a:rPr>
              <a:t>  March and 30</a:t>
            </a:r>
            <a:r>
              <a:rPr b="0" lang="en-US" sz="2400" spc="-1" strike="noStrike" baseline="30000">
                <a:solidFill>
                  <a:srgbClr val="000000"/>
                </a:solidFill>
                <a:latin typeface="Calibri"/>
              </a:rPr>
              <a:t>th</a:t>
            </a:r>
            <a:r>
              <a:rPr b="0" lang="en-US" sz="2400" spc="-1" strike="noStrike">
                <a:solidFill>
                  <a:srgbClr val="000000"/>
                </a:solidFill>
                <a:latin typeface="Calibri"/>
              </a:rPr>
              <a:t> September about his posi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i="1" lang="en-US" sz="2400" spc="-1" strike="noStrike">
                <a:solidFill>
                  <a:srgbClr val="548235"/>
                </a:solidFill>
                <a:latin typeface="Calibri"/>
              </a:rPr>
              <a:t>Meaning of debt – Total liabilities exceeds 6 months basic sala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8 – Employees not to be absent from duty without permission or be late in attendance – one day’s CL without prior sanction is allowed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19 – Absence from station – No employee shall absent himself from his station overnight without prior sanc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920" y="152280"/>
            <a:ext cx="853452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0 – Suspension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ppropriate Authority may place an employee under suspens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 disciplinary proceedings against him i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ontemplated or is pending</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2) criminal offence is under investigation or tri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 detained in custody whether on  a crimin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 or otherwise for a period </a:t>
            </a:r>
            <a:r>
              <a:rPr b="1" lang="en-US" sz="2400" spc="-1" strike="noStrike" u="sng">
                <a:solidFill>
                  <a:srgbClr val="000000"/>
                </a:solidFill>
                <a:uFillTx/>
                <a:latin typeface="Calibri"/>
              </a:rPr>
              <a:t>exceeding 48</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u="sng">
                <a:solidFill>
                  <a:srgbClr val="000000"/>
                </a:solidFill>
                <a:uFillTx/>
                <a:latin typeface="Calibri"/>
              </a:rPr>
              <a:t> </a:t>
            </a:r>
            <a:r>
              <a:rPr b="1" lang="en-US" sz="2400" spc="-1" strike="noStrike" u="sng">
                <a:solidFill>
                  <a:srgbClr val="000000"/>
                </a:solidFill>
                <a:uFillTx/>
                <a:latin typeface="Calibri"/>
              </a:rPr>
              <a:t>hours</a:t>
            </a:r>
            <a:r>
              <a:rPr b="0" lang="en-US" sz="2400" spc="-1" strike="noStrike">
                <a:solidFill>
                  <a:srgbClr val="000000"/>
                </a:solidFill>
                <a:latin typeface="Calibri"/>
              </a:rPr>
              <a:t> –deemed suspension from the date of</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eten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 once in three months for appropriate decisions or payment of appropriate subsistence allowan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52280" y="-360"/>
            <a:ext cx="868680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1 – Subsistence Allowance – 50% of monthly / gross emoluments (comprising of BP, DA, HRA, CCA, HSA, QP, personal pay, special pay and deputation allowance) drawn on the date immediately prior to the date on which the employee is suspended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vary the subsistence allowance after 6 mont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reased to 75% if the reasons for delay is not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 (employee shall have no right to claim increased S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educed to 25% if the reason is directly attributed to th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 subsistence Allowance during period of detention by the polic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Rule 20 &amp; 21 – Appropriate Authority shall mean an authority competent to impose major penal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400" spc="-1" strike="noStrike">
                <a:solidFill>
                  <a:srgbClr val="548235"/>
                </a:solidFill>
                <a:latin typeface="Calibri"/>
              </a:rPr>
              <a:t>Eg – Appropriate Authority for Asst., RC, SS or equivalent cadres – Head of Office concerned or departmen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ulsory deductions – income tax, compensation for the use of accommodation allotted, repayment of loans and advance taken from the company, medical benefit insurance scheme premium</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voluntary deductions – lic premium, cooperative society, refund of loan taken from pf</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duductions – towards pf, amount due under court attachment, recovery of any loss which employee may have caused to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75960"/>
            <a:ext cx="8763120" cy="65530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2 – Treatment of period of suspension – Any period of absence which has not been treated as period spent on duty or on leave shall not count for service for any purpose but will not constitute as break in service – Refund of subsistence allowance by the employee cannot be compell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3 – Penalties –  are being imposed by Disciplinary Authority on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Minor Penalties –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 Censur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b) Withholding of one or more increments for a specified perio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 Recovery of the whole or part of any pecuniary loss caused to the Company by negligence or breach of orders from pay or such other amount as may be due to him.</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 Reduction to a lower stage in the time-scale for a period not exceeding three years without cumulative eff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960" y="0"/>
            <a:ext cx="8762760" cy="6858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ajor Penalti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 Withholding of one or more increments permanentl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 Reduction to a lower service or post or to a lower time-scale or to a lower stage in a time-scal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g) Compulsory retire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h) Removal from service which shall not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Dismissal which shall ordinarily be a disqualification for future employment.</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 following shall not amount  as penalty – withholding of increment for unsatisfactory work, stoppage of an employee at the efficiency bar in a time-scale, non-promotion, reversion to a lower grade or post of an employee officiating in a higher grade or post, reversion on probation, termination of employee appointed on probation, temporary capacit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4 - Disciplinary Authority – Mentioned in the Schedule or higher authority to the competent authority may impose any of the penalties mentioned in Rule 23 on any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76312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5 – Procedure for imposing major penalties – only after inqui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quiring Authority(IO) – Retired officer or any public servant (always one step higher than the Presenting Officer (PO))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Charge-sheeted employee should submit his reply within 15 days (or extension of another 15 days – Max 45 days) on receipt of articles of charges (list of charges leveled against him in writing by the disciplinary authority, inquiry will not be concluded even if the employee is superannuated but to be completed within 3 months from the date of superannuation).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ing Officer – To present on its behalf of the case in support of the articles of charges (list of charges levelled against the CSE)</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fence Assistant – Employee may take assistance of any employee of the Company only (Defence Assistant – not more than 2 cases outside RO.  Employee acting against breach of this Rule shall not be entitled for TA/D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 inquiry if the employee admits the char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4698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CHAPTERS</a:t>
            </a:r>
            <a:endParaRPr b="0" lang="en-US" sz="4500" spc="-1" strike="noStrike">
              <a:solidFill>
                <a:srgbClr val="000000"/>
              </a:solidFill>
              <a:latin typeface="Calibri Light"/>
            </a:endParaRPr>
          </a:p>
        </p:txBody>
      </p:sp>
      <p:sp>
        <p:nvSpPr>
          <p:cNvPr id="53" name="PlaceHolder 2"/>
          <p:cNvSpPr>
            <a:spLocks noGrp="1"/>
          </p:cNvSpPr>
          <p:nvPr>
            <p:ph type="subTitle"/>
          </p:nvPr>
        </p:nvSpPr>
        <p:spPr>
          <a:xfrm>
            <a:off x="837720" y="1294920"/>
            <a:ext cx="8001000" cy="495324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MINISTRATIVE INSTRUCTIONS ON WAGE REVISION – CLASS I, II, III &amp; IV</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AND MOBILITY POLICY FOR OFFICER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CRUITMENT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EAVE RUL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 POLICY FOR CLASS III / IV EMPLOYE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ANS AND ADVANCE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NEFIT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RATUITY / PENSION CALC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600" y="152280"/>
            <a:ext cx="8686800" cy="647712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the employee does not appear in person, inquiry authority will hold the inquiry ex-parte</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fter conclusion of inquiry, report shall be prepared on articles of charges and the statement of the imputations or mis-conduct or mis-behaviour, defence of the employee, assessment of evidence and findings</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 Inquiring Authority should submit his report within 6 months.</a:t>
            </a:r>
            <a:endParaRPr b="0" lang="en-US" sz="20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6 – Action on the inquiry report  - Disciplinary Authority will go through the report and further action will be taken.</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7 – Procedure for imposing minor penalties – Employee is informed in writing of the imputation of mis-conduct / mis-behaviour.  Employee within 15 days has to reply</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ule 28 – Communication of Orders – Delivered personally to the employee / sent by registered post (if cannot be done, affixed on notice board)</a:t>
            </a:r>
            <a:endParaRPr b="0" lang="en-US" sz="22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9 – Common proceedings – Two or more employees concerned in a case, the authority competent to impose major penalty on the employee of the highest cad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600" y="152280"/>
            <a:ext cx="861048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0 – Special procedure in certain cases – employee has been convicted on criminal charge, not reasonably practicable, due to interest of the security of the company, employee has abandoned the post (employee absents himself without leave or overstays his leave for a continuous period of 90 days without any intimation)  without holding any inquir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1 – Right to appeal – Appeal to the Appellate Authority (superior to the authority which has passed the order of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2 – Period of limitations of appeal – within a period of 3 months from the date of receipt of copy of ord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3 – Form and contents of appeal – in his own na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4 – Submission of appeal - Every appeal shall be submitted through the authority which made the order appealed against, Provided further that a copy of the appeal may be submitted directly to the Appellate Autho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28240" y="152280"/>
            <a:ext cx="8458200" cy="68580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5 – Withholding of appeals – does not comply with the provisions of Rule 33, not submitted within time limit, repetition of appeal already decided and no new facts Provided that an appeal withheld under this sub-rule shall be returned to the appellant and if resubmitted within one month thereof after complying with the provisions of Rule 33 shall not be withheld.  Quarterly statement on list of appeals withheld to be submitted to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6 – Transmission of Appeals – The authority which made the order shall forward the same to the Appellate Authority</a:t>
            </a:r>
            <a:endParaRPr b="0" lang="en-US" sz="20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7 – Consideration of Appeals - All appeals should be disposed of as expeditiously as possible and in any event not later than 6 months from the date of receipt of the appeal by the Appellate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Rule 38 – Appeal against other orders – Order passed which denies disadvantage to his salary, stopping an employee in efficiency bar in time scale, determining salary and allowances during suspension, etc</a:t>
            </a:r>
            <a:endParaRPr b="0" lang="en-US" sz="20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800" spc="-1" strike="noStrike">
                <a:solidFill>
                  <a:srgbClr val="548235"/>
                </a:solidFill>
                <a:latin typeface="Calibri"/>
              </a:rPr>
              <a:t>Rig</a:t>
            </a:r>
            <a:r>
              <a:rPr b="1" i="1" lang="en-US" sz="2000" spc="-1" strike="noStrike">
                <a:solidFill>
                  <a:srgbClr val="548235"/>
                </a:solidFill>
                <a:latin typeface="Calibri"/>
              </a:rPr>
              <a:t>or effect – one year for minor penalties and two years for major penalties. Censure no rigor effe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28600" y="152280"/>
            <a:ext cx="8686800" cy="6477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39 – Review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any at its own motion or otherwise after calling for the records review any order which is made or is appeal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firm, modify or set aside the order</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mit the case to any authority to any office</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mpose penalti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0 – Memorial – Appeal rejected, may address to the appropriate memorial authority within a period of six months from the date of receipt of copy of order of appellate authorit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1 – Canvassing non-official or outside influe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2 – Interpretation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3 – Amendments – Boar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44 – Authority to issue administrative instructions  - CM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imelines at a glance</a:t>
            </a:r>
            <a:endParaRPr b="0" lang="en-US" sz="3300" spc="-1" strike="noStrike">
              <a:solidFill>
                <a:srgbClr val="000000"/>
              </a:solidFill>
              <a:latin typeface="Calibri Light"/>
            </a:endParaRPr>
          </a:p>
        </p:txBody>
      </p:sp>
      <p:sp>
        <p:nvSpPr>
          <p:cNvPr id="78" name=""/>
          <p:cNvSpPr txBox="1"/>
          <p:nvPr/>
        </p:nvSpPr>
        <p:spPr>
          <a:xfrm>
            <a:off x="457200" y="1295280"/>
            <a:ext cx="8229600" cy="51818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hargesheet – By Disciplinary Authority – within 15 days employee has to reply on the articles of charges – Max 45 day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quiry Report – Within a period of 6 months from the date of appointment of Inquiry Officer (maximum one more month can be taken if required – As per CVC Guidelin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eal – Within 3 months from the date of receipt of penalty.  Can withhold appeal but resubmitted within one month has to be forwarded to Appellate Authority.  Appeal to be disposed off within 6 month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emorial – Within 6 months from the date of receipt of appeal orde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152280" y="228600"/>
          <a:ext cx="8763120" cy="7089840"/>
        </p:xfrm>
        <a:graphic>
          <a:graphicData uri="http://schemas.openxmlformats.org/drawingml/2006/table">
            <a:tbl>
              <a:tblPr/>
              <a:tblGrid>
                <a:gridCol w="2248200"/>
                <a:gridCol w="1549080"/>
                <a:gridCol w="1395720"/>
                <a:gridCol w="2168280"/>
                <a:gridCol w="1401840"/>
              </a:tblGrid>
              <a:tr h="5176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Category of Employees/</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Officer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ointing</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Disciplinary</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ppellat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Memorial</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400" spc="-1" strike="noStrike">
                          <a:solidFill>
                            <a:srgbClr val="ffffff"/>
                          </a:solidFill>
                          <a:latin typeface="Calibri"/>
                        </a:rPr>
                        <a:t>Author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80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ub-Staff/Driver &amp; Equiv.</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Record Clerk/ Assistant &amp;</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Equiv. Cadr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2812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r. Assistant &amp; Equiv. Cadres / Superintendent / Development</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I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 I &amp; Scale 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5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For Officers in Scale-I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801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IV &amp; V</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 in</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n Office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 Scale-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ommittee</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589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Officers in Scale VII</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enior most General Manager &amp; Directo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MD</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 Sub-Committee (HR)</a:t>
                      </a: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oar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PROMOTION POLICY FOR OFFICERS 2006</a:t>
            </a:r>
            <a:endParaRPr b="0" lang="en-US" sz="2800" spc="-1" strike="noStrike">
              <a:solidFill>
                <a:srgbClr val="000000"/>
              </a:solidFill>
              <a:latin typeface="Calibri Light"/>
            </a:endParaRPr>
          </a:p>
        </p:txBody>
      </p:sp>
      <p:sp>
        <p:nvSpPr>
          <p:cNvPr id="81" name=""/>
          <p:cNvSpPr txBox="1"/>
          <p:nvPr/>
        </p:nvSpPr>
        <p:spPr>
          <a:xfrm>
            <a:off x="628560" y="1825200"/>
            <a:ext cx="7886880" cy="43513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Applicability – Applicable to promotion of officers up to the cadre of Scale VII </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 to VI and Scale VI to VII – shall be within GIPSA Companies, common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Within compan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Scale VI and VII – shall be on merit, 3 times the no. of vacancies subject to a maximum of 4 times</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Up to Scale V – merit and seniority</a:t>
            </a:r>
            <a:endParaRPr b="0" lang="en-US" sz="22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Eligibility for promotion to Scale VI and VII – should have completed minimum 2 full years and for promotions up to Scale V, should have completed minimum of 3 full years of service</a:t>
            </a:r>
            <a:endParaRPr b="0" lang="en-US" sz="22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5715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Para 22B – If the ZOC falls short of 4.5 times (Scale V promotion) or 3.5 times (Scale IV promotion), then Officers who have completed minimum 2 years in the respective cadre shall be included to the extent of ZOC.</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Quota for promotion under Normal and Fast track shall be 60% and 40% respectively</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No Interview for Scale I to II under fast track</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Instance of an Officer refusing promotion under Fast Track Channel shall result in counting of his participation in the Fast Track Channel of promotion and also as an attempt within the limits of </a:t>
            </a:r>
            <a:r>
              <a:rPr b="1" lang="en-US" sz="2200" spc="-1" strike="noStrike">
                <a:solidFill>
                  <a:srgbClr val="000000"/>
                </a:solidFill>
                <a:latin typeface="Calibri"/>
              </a:rPr>
              <a:t>02 </a:t>
            </a:r>
            <a:r>
              <a:rPr b="0" lang="en-US" sz="2200" spc="-1" strike="noStrike">
                <a:solidFill>
                  <a:srgbClr val="000000"/>
                </a:solidFill>
                <a:latin typeface="Calibri"/>
              </a:rPr>
              <a:t>attempts notwithstanding his having qualified in the Written Test.</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Golden Gate Scheme – Officers up to Scale IV eligible if another Officer superseded in promotion  for the 3 consecutive Promotion Exercises</a:t>
            </a:r>
            <a:r>
              <a:rPr b="0" lang="en-US" sz="2400" spc="-1" strike="noStrike">
                <a:solidFill>
                  <a:srgbClr val="000000"/>
                </a:solidFill>
                <a:latin typeface="Calibri"/>
              </a:rPr>
              <a:t>  (Golden Gate will be opened for a specific period onl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83" name="Rectangle 1"/>
          <p:cNvSpPr/>
          <p:nvPr/>
        </p:nvSpPr>
        <p:spPr>
          <a:xfrm>
            <a:off x="533520" y="457200"/>
            <a:ext cx="8076960" cy="121932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86" name="Picture 2" descr=""/>
          <p:cNvPicPr/>
          <p:nvPr/>
        </p:nvPicPr>
        <p:blipFill>
          <a:blip r:embed="rId1"/>
          <a:stretch/>
        </p:blipFill>
        <p:spPr>
          <a:xfrm>
            <a:off x="214200" y="0"/>
            <a:ext cx="79390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tretch/>
        </p:blipFill>
        <p:spPr>
          <a:xfrm>
            <a:off x="762120" y="533520"/>
            <a:ext cx="73152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0948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UNITED INDIA INSURANCE COMPANY (CDA) RULES, 2014</a:t>
            </a:r>
            <a:endParaRPr b="0" lang="en-US" sz="3000" spc="-1" strike="noStrike">
              <a:solidFill>
                <a:srgbClr val="000000"/>
              </a:solidFill>
              <a:latin typeface="Calibri Light"/>
            </a:endParaRPr>
          </a:p>
        </p:txBody>
      </p:sp>
      <p:sp>
        <p:nvSpPr>
          <p:cNvPr id="55" name="PlaceHolder 2"/>
          <p:cNvSpPr>
            <a:spLocks noGrp="1"/>
          </p:cNvSpPr>
          <p:nvPr>
            <p:ph type="subTitle"/>
          </p:nvPr>
        </p:nvSpPr>
        <p:spPr>
          <a:xfrm>
            <a:off x="380520" y="1066320"/>
            <a:ext cx="8610840" cy="49532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IMPORTANT ASPECTS</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DA – Conduct, Discipline &amp; Appeal</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roduction of Board Sub-committee (HR) as Appellate and Memorial Authorities</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imit of acceptance of gifts from relatives – Rs.10000, personal friend – Rs.7000 and other cases Rs.5000.</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ew of suspension orders once in 3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1920" y="-360"/>
            <a:ext cx="8534520" cy="67057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Zone of consideratio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ote : Eligible Officers in same batch will be considered, even if the total no. exceeds the above proportion.  Continuous service means period of duty excluding period on extraordinary leav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ra 9 – Qualifying benchmark</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1 Scale VI and Scale VII – screening interview by Screening Committee comprising of 4 or 5 outside exper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9.2  Up to Scale V – No written test  under Normal Channe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60 (54 for SC/ST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Fast track - No. of vacancies – 40% of total vacancies or 1.5 times the number of passed candidates (16</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se seniority – 0.01 marks adde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89" name=""/>
          <p:cNvGraphicFramePr/>
          <p:nvPr/>
        </p:nvGraphicFramePr>
        <p:xfrm>
          <a:off x="1447920" y="609480"/>
          <a:ext cx="6095880" cy="1381320"/>
        </p:xfrm>
        <a:graphic>
          <a:graphicData uri="http://schemas.openxmlformats.org/drawingml/2006/table">
            <a:tbl>
              <a:tblPr/>
              <a:tblGrid>
                <a:gridCol w="3047760"/>
                <a:gridCol w="304812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For promotion to 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5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or promotion to Scale II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120"/>
            <a:ext cx="8305920" cy="65466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nking List</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Under Normal Channel – Based on seniority, qualification, work record and interview (wherever applicable)</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C - Reserve List – No. of Employees considered for promotion upto 31</a:t>
            </a:r>
            <a:r>
              <a:rPr b="0" lang="en-US" sz="1800" spc="-1" strike="noStrike" baseline="30000">
                <a:solidFill>
                  <a:srgbClr val="000000"/>
                </a:solidFill>
                <a:latin typeface="Calibri"/>
              </a:rPr>
              <a:t>st</a:t>
            </a:r>
            <a:r>
              <a:rPr b="0" lang="en-US" sz="1800" spc="-1" strike="noStrike">
                <a:solidFill>
                  <a:srgbClr val="000000"/>
                </a:solidFill>
                <a:latin typeface="Calibri"/>
              </a:rPr>
              <a:t> March of the financial year</a:t>
            </a:r>
            <a:endParaRPr b="0" lang="en-US" sz="1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ontingency List – 10% of vacancies</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romoting Authority – Scale VII and VI – CMD, Scale V and IV – GM and Scale III and II – DGM</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n-acceptance of promotion – Refusal waiting period of next one promotion exercise (Promotion Committee is the Competent Authority for such cases)</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pting out – once in each cadre  (for Scale VI and VII)</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6</a:t>
            </a:r>
            <a:r>
              <a:rPr b="0" lang="en-US" sz="1800" spc="-1" strike="noStrike" baseline="30000">
                <a:solidFill>
                  <a:srgbClr val="000000"/>
                </a:solidFill>
                <a:latin typeface="Calibri"/>
              </a:rPr>
              <a:t>th</a:t>
            </a:r>
            <a:r>
              <a:rPr b="0" lang="en-US" sz="1800" spc="-1" strike="noStrike">
                <a:solidFill>
                  <a:srgbClr val="000000"/>
                </a:solidFill>
                <a:latin typeface="Calibri"/>
              </a:rPr>
              <a:t> Amendment allows opting out for two times upto Scale V also)</a:t>
            </a:r>
            <a:endParaRPr b="0" lang="en-US" sz="18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libri"/>
              </a:rPr>
              <a:t>22 A Special Dispensation when post of CMD is vacant / Leave of Absence is accorded to CMD:</a:t>
            </a:r>
            <a:endParaRPr b="0" lang="en-US" sz="1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withstanding anything contained in the Policy, in the circumstances when post of CMD is vacant / Leave of Absence is accorded to CMD, the authority vested in and the functions to be discharged by the CMD for promotion of Officers up to Scale VI shall be vested in and discharged by the senior most Whole Time Director of the Compa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6</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8 – Eligibility and Zone of consideration</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8.3 – Opt out from promotion process – Officers eligible can opt out from the Prom. Ex. For promotion upto Scale V twice in each cadre within 14 days from the date of declaration. No substitution or further inclusion shall be made.  Opting out - Twice in one cadre.</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ara 14A – Fast Track Promotion – Earlier twice the number has been reduced to 1.5 times. 0.33 to be ignored (passed cand./ 1.5) This is not applicable to Scale I to II promo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8</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n-situ promotions removed for Scale VI &amp; VII promotion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22D – Spl dispensation for prom to Scale VII – Officer should have completed one and half years in the existing scale as on 1</a:t>
            </a:r>
            <a:r>
              <a:rPr b="0" lang="en-US" sz="2100" spc="-1" strike="noStrike" baseline="30000">
                <a:solidFill>
                  <a:srgbClr val="000000"/>
                </a:solidFill>
                <a:latin typeface="Calibri"/>
              </a:rPr>
              <a:t>st</a:t>
            </a:r>
            <a:r>
              <a:rPr b="0" lang="en-US" sz="2100" spc="-1" strike="noStrike">
                <a:solidFill>
                  <a:srgbClr val="000000"/>
                </a:solidFill>
                <a:latin typeface="Calibri"/>
              </a:rPr>
              <a:t> of April and should have min. 2 full years of balance service.  3 times the no. of vacancies (For 2023-24 Prom Ex onl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19</a:t>
            </a:r>
            <a:r>
              <a:rPr b="0" lang="en-US" sz="3300" spc="-1" strike="noStrike" baseline="30000">
                <a:solidFill>
                  <a:srgbClr val="000000"/>
                </a:solidFill>
                <a:latin typeface="Calibri Light"/>
              </a:rPr>
              <a:t>th</a:t>
            </a:r>
            <a:r>
              <a:rPr b="0" lang="en-US" sz="3300" spc="-1" strike="noStrike">
                <a:solidFill>
                  <a:srgbClr val="000000"/>
                </a:solidFill>
                <a:latin typeface="Calibri Light"/>
              </a:rPr>
              <a:t> Amendment</a:t>
            </a:r>
            <a:endParaRPr b="0" lang="en-US" sz="33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w Para 22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nual APAR (special APAR) means April to September for those who are eligible under ZOC and regular APAR year will continu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000000"/>
                </a:solidFill>
                <a:latin typeface="Calibri Light"/>
              </a:rPr>
              <a:t>Promotion Policy for SCS Staff, 2008</a:t>
            </a:r>
            <a:endParaRPr b="0" lang="en-US" sz="4000" spc="-1" strike="noStrike">
              <a:solidFill>
                <a:srgbClr val="000000"/>
              </a:solidFill>
              <a:latin typeface="Calibri Light"/>
            </a:endParaRPr>
          </a:p>
        </p:txBody>
      </p:sp>
      <p:sp>
        <p:nvSpPr>
          <p:cNvPr id="98" name=""/>
          <p:cNvSpPr txBox="1"/>
          <p:nvPr/>
        </p:nvSpPr>
        <p:spPr>
          <a:xfrm>
            <a:off x="457200" y="837720"/>
            <a:ext cx="8229600" cy="52880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motional cadres – Scale I (Para 13.1 &amp; 13.2), Sr.Asst (Para 14 &amp; Para 25A) and Assistant (Para 15)</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 SC – 15%, ST – 7.5%, PwBd – 4% for Asst, Sr.Asst and AO promot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50% each for Para 13.1 &amp; 13.2, probation 1 year, 4 zones, Promoting Authority – Scale VI</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16 zones, Promoting Authority – Scale 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anels – 5 times the number of vacancies for each category</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For 13.2, marks obtained in examination is reduced to 35 percent apart from seniority and qualification mark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ale I – 13.1 – 7 years, 5 years with LIII, 3 years with AIII and immediate with FIII/Graduation in Engg or MBA</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cale I – 13.2 – Graduation or FIII (AIII for SC/ST), ICWAI, ICAI, ACS, MBA – No. of attempts 4 (5 for SC/ST),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assing marks 60% (50%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r.Asst. - 7 years, 5 years with LIII, 3 years with AIII and immediate with FIII or reached ceiling</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sst – Eligible for direct recruitment of Asst., matriculate with 10 years, passed departmental test or RC with 5 years.  Service rendered as PTE will also be counted as per their hours of work and passed computer literacy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ut-off date for qualification – Date of publication of Notice declaring vacan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28240"/>
            <a:ext cx="8229600" cy="6248520"/>
          </a:xfrm>
          <a:prstGeom prst="rect">
            <a:avLst/>
          </a:prstGeom>
          <a:noFill/>
          <a:ln w="0">
            <a:noFill/>
          </a:ln>
        </p:spPr>
        <p:txBody>
          <a:bodyPr anchor="t">
            <a:normAutofit fontScale="98000"/>
          </a:bodyPr>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ightage</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niority – 2 marks for every year</a:t>
            </a:r>
            <a:endParaRPr b="0" lang="en-US" sz="2400" spc="-1" strike="noStrike">
              <a:solidFill>
                <a:srgbClr val="000000"/>
              </a:solidFill>
              <a:latin typeface="Calibri"/>
            </a:endParaRPr>
          </a:p>
          <a:p>
            <a:pPr marL="167760" indent="-1677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Qualification – Academic and Technical</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ademic – SSC – 5, HSC – 7, Degree – 12, PG – 15, Double degree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chnical – LIII, MBA – 5, AIII – 10, FIII, MCA, ICAI, ACS, ICWAI – 15</a:t>
            </a:r>
            <a:endParaRPr b="0" lang="en-US" sz="24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 – ACPS – ASSURED CAREER PROGRESSION SCEHEME (Running Scal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PARA 25A – Spl. Provision for one promotion in life time for Assistants – 20 years of service and 50 completed years of age</a:t>
            </a:r>
            <a:endParaRPr b="0" lang="en-US" sz="2000" spc="-1" strike="noStrike">
              <a:solidFill>
                <a:srgbClr val="000000"/>
              </a:solidFill>
              <a:latin typeface="Calibri"/>
            </a:endParaRPr>
          </a:p>
          <a:p>
            <a:pPr marL="167760" indent="-1677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TAGNATION TO STAGNATION STAGE FIXATION ALLOWED WEF 01/04/2023</a:t>
            </a:r>
            <a:endParaRPr b="0" lang="en-US" sz="2000" spc="-1" strike="noStrike">
              <a:solidFill>
                <a:srgbClr val="000000"/>
              </a:solidFill>
              <a:latin typeface="Calibri"/>
            </a:endParaRPr>
          </a:p>
        </p:txBody>
      </p:sp>
      <p:graphicFrame>
        <p:nvGraphicFramePr>
          <p:cNvPr id="101" name=""/>
          <p:cNvGraphicFramePr/>
          <p:nvPr/>
        </p:nvGraphicFramePr>
        <p:xfrm>
          <a:off x="1523880" y="631800"/>
          <a:ext cx="6096240" cy="2263680"/>
        </p:xfrm>
        <a:graphic>
          <a:graphicData uri="http://schemas.openxmlformats.org/drawingml/2006/table">
            <a:tbl>
              <a:tblPr/>
              <a:tblGrid>
                <a:gridCol w="1524240"/>
                <a:gridCol w="1523880"/>
                <a:gridCol w="1523880"/>
                <a:gridCol w="1524240"/>
              </a:tblGrid>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rite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r.As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Qual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8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ork Recor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62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tervie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Transfer and Mobility Policy for Officers</a:t>
            </a:r>
            <a:endParaRPr b="0" lang="en-US" sz="3300" spc="-1" strike="noStrike">
              <a:solidFill>
                <a:srgbClr val="000000"/>
              </a:solidFill>
              <a:latin typeface="Calibri Light"/>
            </a:endParaRPr>
          </a:p>
        </p:txBody>
      </p:sp>
      <p:sp>
        <p:nvSpPr>
          <p:cNvPr id="103" name=""/>
          <p:cNvSpPr txBox="1"/>
          <p:nvPr/>
        </p:nvSpPr>
        <p:spPr>
          <a:xfrm>
            <a:off x="456840" y="1600200"/>
            <a:ext cx="8458200" cy="51055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pplicable upto Scale IV</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rmal Period of Posting (NPP) – 5 year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quest transfer – Minimum after 3 years – Maximum 3 request transfers for the entire period of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request transfer is considered after 5 years, it will not be counted as a request  transfe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fer benefits – No transfer benefit within the same city, in case of request transfers no transfer benefit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aximum one year exemption may be given with the approval of CMD to an Officer who is handling specialised discipline</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nsitive posts – Claims including Service and TP Hubs, Estate, Administration, Publicity, etc and in-charges of DO/BO declared as sensitive posts as per CVC. Maximum period is 3 years other than in charg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riod of stay in difficult area reduced from 3 to  2 years, excluding LOP, if any</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1066680"/>
            <a:ext cx="8229600" cy="45259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uspended employee shall not have right for increase in subsistence allowance immediately after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duction to a lower stage in the time scale for a period not exceeding 3 years included as minor penal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ording of “Dismissal” under major penalty changed to “Dismissal which shall ordinarily be a disqualification for future employment” under major penalty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vision in schedule of authorities under Schedule 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8381880" cy="60962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period of posting under TMP – Lady Officers up to Scale III transferred on TMP and Promotions may be considered for transfer on request after 2 years.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xemption – 13 major diseases.  Major diseases – Malignant cancer, Leprosy, TB, Paralysis, Brain tumour, CABG/ Heart valve replacement/ Angioplasty (Max 1 year), Chronic kidney disease, AIDS, Mental disease, Total replacement of joints – max 1 year, spinal surgery, disease of liver leading to Hepatic failure or transplantation, Thalassemia Major (breakdown of fragile blood cells and requires continuous lifesaving treatment with blood transfusion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superannuation – Up to Scale III only. Before 1 year can be considered for transfer to their place of request / home tow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laxation – Rests with CMD</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Officers</a:t>
            </a:r>
            <a:endParaRPr b="0" lang="en-US" sz="3300" spc="-1" strike="noStrike">
              <a:solidFill>
                <a:srgbClr val="000000"/>
              </a:solidFill>
              <a:latin typeface="Calibri Light"/>
            </a:endParaRPr>
          </a:p>
        </p:txBody>
      </p:sp>
      <p:sp>
        <p:nvSpPr>
          <p:cNvPr id="107" name=""/>
          <p:cNvSpPr txBox="1"/>
          <p:nvPr/>
        </p:nvSpPr>
        <p:spPr>
          <a:xfrm>
            <a:off x="304560" y="1676520"/>
            <a:ext cx="8381880" cy="533376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Scale I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60% in graduation, 55% for SC/ST candidat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India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 – 15%, ST – 7.5%, OBC – 27%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and interview</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1 year</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Recruitment Rules for Assistants</a:t>
            </a:r>
            <a:endParaRPr b="0" lang="en-US" sz="3300" spc="-1" strike="noStrike">
              <a:solidFill>
                <a:srgbClr val="000000"/>
              </a:solidFill>
              <a:latin typeface="Calibri Light"/>
            </a:endParaRPr>
          </a:p>
        </p:txBody>
      </p:sp>
      <p:sp>
        <p:nvSpPr>
          <p:cNvPr id="109" name=""/>
          <p:cNvSpPr txBox="1"/>
          <p:nvPr/>
        </p:nvSpPr>
        <p:spPr>
          <a:xfrm>
            <a:off x="304560" y="1599840"/>
            <a:ext cx="8381880" cy="533412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ry Cadre – Assistan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Graduation, knowledge of regional languag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te basi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ervation for SC/ST/OBC  – Depending on regional representation (vertic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lection – written test, regional language tes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bation – 6 month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a:t>
            </a:r>
            <a:endParaRPr b="0" lang="en-US" sz="2800" spc="-1" strike="noStrike">
              <a:solidFill>
                <a:srgbClr val="000000"/>
              </a:solidFill>
              <a:latin typeface="Calibri Light"/>
            </a:endParaRPr>
          </a:p>
        </p:txBody>
      </p:sp>
      <p:sp>
        <p:nvSpPr>
          <p:cNvPr id="111"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 (16</a:t>
            </a:r>
            <a:r>
              <a:rPr b="0" lang="en-US" sz="2400" spc="-1" strike="noStrike" baseline="30000">
                <a:solidFill>
                  <a:srgbClr val="000000"/>
                </a:solidFill>
                <a:latin typeface="Calibri"/>
              </a:rPr>
              <a:t>th</a:t>
            </a:r>
            <a:r>
              <a:rPr b="0" lang="en-US" sz="2400" spc="-1" strike="noStrike">
                <a:solidFill>
                  <a:srgbClr val="000000"/>
                </a:solidFill>
                <a:latin typeface="Calibri"/>
              </a:rPr>
              <a:t> schedu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Officer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who have gone on golden gate scheme only difference in exgratia is payabl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Effective Date : BP, DA, HRA,CCA, TA,  mid-acad, spl. Area, transf. grant, leave encash, PF, New Pen.fund, Gratuity, FPA – 01/08/2017.       HSA, Kit Allowance, Paradeep Port Allowance, func allow, entertainment allowance   - 01/11/2022.</a:t>
            </a:r>
            <a:r>
              <a:rPr b="0" lang="en-US" sz="2400" spc="-1" strike="noStrike">
                <a:solidFill>
                  <a:srgbClr val="000000"/>
                </a:solidFill>
                <a:latin typeface="Calibri"/>
              </a:rPr>
              <a:t>Lumpsum medical – 01/01/202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 – The cadre in which an employee was there as on 01/11/1993.  FPA is released one year after reaching maximum of the scale. (Employees joined before 22/06/2000)</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arness Allowance (DA) – All India Consumer Price Index 6352 (base year 1960=100).  Rate of DA – 0.08% of the revised basic pay .  DA revision every quarter – Feb, May, August, November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sently 759 slabs as on 01/11/2024 (60.72%)</a:t>
            </a:r>
            <a:endParaRPr b="0" lang="en-US" sz="2400" spc="-1" strike="noStrike">
              <a:solidFill>
                <a:srgbClr val="000000"/>
              </a:solidFill>
              <a:latin typeface="Calibri"/>
            </a:endParaRPr>
          </a:p>
        </p:txBody>
      </p:sp>
      <p:graphicFrame>
        <p:nvGraphicFramePr>
          <p:cNvPr id="113" name=""/>
          <p:cNvGraphicFramePr/>
          <p:nvPr/>
        </p:nvGraphicFramePr>
        <p:xfrm>
          <a:off x="1523880" y="1371600"/>
          <a:ext cx="3886200" cy="175248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08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51920" y="-152640"/>
            <a:ext cx="9068040" cy="7086600"/>
          </a:xfrm>
          <a:prstGeom prst="rect">
            <a:avLst/>
          </a:prstGeom>
          <a:noFill/>
          <a:ln w="0">
            <a:noFill/>
          </a:ln>
        </p:spPr>
        <p:txBody>
          <a:bodyPr anchor="t">
            <a:noAutofit/>
          </a:bodyPr>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House Rent Allowance</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Officers provided leased accommodation – No HRA.  Licence Fee @ 0.50% of minimum basic pay of the revised scale w.e.f 01/11/2022 is deducted.(upto 31/10/22 – pre-revised pay and rate will continue)</a:t>
            </a: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15" name=""/>
          <p:cNvGraphicFramePr/>
          <p:nvPr/>
        </p:nvGraphicFramePr>
        <p:xfrm>
          <a:off x="533520" y="741240"/>
          <a:ext cx="8076960" cy="4211640"/>
        </p:xfrm>
        <a:graphic>
          <a:graphicData uri="http://schemas.openxmlformats.org/drawingml/2006/table">
            <a:tbl>
              <a:tblPr/>
              <a:tblGrid>
                <a:gridCol w="907920"/>
                <a:gridCol w="4476600"/>
                <a:gridCol w="2692440"/>
              </a:tblGrid>
              <a:tr h="3715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76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17"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9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86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4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19" name=""/>
          <p:cNvGraphicFramePr/>
          <p:nvPr/>
        </p:nvGraphicFramePr>
        <p:xfrm>
          <a:off x="914400" y="838080"/>
          <a:ext cx="7086600" cy="39988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1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410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196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 (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fficers joined  after                              - No recovery towards PF</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Covered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NATIONAL PENSION</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SYSTEM)- 10% of BP+DA</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2"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245/-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23"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9000/-</a:t>
            </a:r>
            <a:endParaRPr b="0" lang="en-US" sz="1800" spc="-1" strike="noStrike">
              <a:solidFill>
                <a:srgbClr val="000000"/>
              </a:solidFill>
              <a:latin typeface="Calibri"/>
            </a:endParaRPr>
          </a:p>
        </p:txBody>
      </p:sp>
      <p:sp>
        <p:nvSpPr>
          <p:cNvPr id="124"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DA RULES – In detail</a:t>
            </a:r>
            <a:endParaRPr b="0" lang="en-US" sz="33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pplicable to all employees appointed in UIIC or in NIA, NIC, OIC, GIC and AICIL.</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s rule is also applicable to persons governed by General Insurance (Employees’) Pension Scheme, 1995 and amendments thereto to the extend provided under the said Scheme</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ule 2 – Definitions</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 – General Insurance Business (Nationalisation) Act, 1972 and subsequent amendments thereto</a:t>
            </a:r>
            <a:endParaRPr b="0" lang="en-US" sz="2400" spc="-1" strike="noStrike">
              <a:solidFill>
                <a:srgbClr val="000000"/>
              </a:solidFill>
              <a:latin typeface="Calibri"/>
            </a:endParaRPr>
          </a:p>
          <a:p>
            <a:pPr marL="171360" indent="-171360"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petent Authority – Ordinarily means superior authority to whom the employee re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228600"/>
            <a:ext cx="8229600" cy="632448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Lumpsum medical benefit (Basic Pay as on 1</a:t>
            </a:r>
            <a:r>
              <a:rPr b="1" lang="en-US" sz="2400" spc="-1" strike="noStrike" baseline="30000">
                <a:solidFill>
                  <a:srgbClr val="000000"/>
                </a:solidFill>
                <a:latin typeface="Calibri"/>
              </a:rPr>
              <a:t>st</a:t>
            </a:r>
            <a:r>
              <a:rPr b="1" lang="en-US" sz="2400" spc="-1" strike="noStrike">
                <a:solidFill>
                  <a:srgbClr val="000000"/>
                </a:solidFill>
                <a:latin typeface="Calibri"/>
              </a:rPr>
              <a:t> Jan) –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Basic Pay upto Rs.91345/-    - Rs.1960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Above Basic Pay Rs.91345/- - Rs.29400/-</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Mid-academic year allowance – Rs.1625/-</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Non-practicing allowance for Doctors – 25% of the BP subject to the condition that BP+NPA does not exceed ultimate BP of Scale IV – This provision has been amended</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Officers – Rs.1625/-</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IAI &amp; Vigilance)</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ntertainment Allowance –</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ranch In-charge    – Rs.1770/-</a:t>
            </a:r>
            <a:endParaRPr b="0" lang="en-US" sz="2400" spc="-1" strike="noStrike">
              <a:solidFill>
                <a:srgbClr val="000000"/>
              </a:solidFill>
              <a:latin typeface="Calibri"/>
            </a:endParaRPr>
          </a:p>
          <a:p>
            <a:pPr marL="457200" indent="-4572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ivision In-charge   -  Rs.21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2"/>
          <p:cNvSpPr/>
          <p:nvPr/>
        </p:nvSpPr>
        <p:spPr>
          <a:xfrm>
            <a:off x="533520" y="1522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7"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575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50925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28"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29"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30"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fficer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a:t>
            </a:r>
            <a:endParaRPr b="0" lang="en-US" sz="2800" spc="-1" strike="noStrike">
              <a:solidFill>
                <a:srgbClr val="000000"/>
              </a:solidFill>
              <a:latin typeface="Calibri Light"/>
            </a:endParaRPr>
          </a:p>
        </p:txBody>
      </p:sp>
      <p:sp>
        <p:nvSpPr>
          <p:cNvPr id="132"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Development Officers during the period from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resigned/terminated Development Officers and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quitable Relief – Difference between aggregate of gross emolumen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360"/>
            <a:ext cx="9067680" cy="6831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34"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Development Offi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rad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35" name="TextBox 1"/>
          <p:cNvSpPr/>
          <p:nvPr/>
        </p:nvSpPr>
        <p:spPr>
          <a:xfrm>
            <a:off x="152280" y="2057400"/>
            <a:ext cx="678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use Rent Allowance (H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6" name=""/>
          <p:cNvGraphicFramePr/>
          <p:nvPr/>
        </p:nvGraphicFramePr>
        <p:xfrm>
          <a:off x="838080" y="2514600"/>
          <a:ext cx="7543800" cy="3944880"/>
        </p:xfrm>
        <a:graphic>
          <a:graphicData uri="http://schemas.openxmlformats.org/drawingml/2006/table">
            <a:tbl>
              <a:tblPr/>
              <a:tblGrid>
                <a:gridCol w="685800"/>
                <a:gridCol w="4648320"/>
                <a:gridCol w="2209680"/>
              </a:tblGrid>
              <a:tr h="3661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006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38"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6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53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34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28600"/>
            <a:ext cx="8229600" cy="5897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0" name=""/>
          <p:cNvGraphicFramePr/>
          <p:nvPr/>
        </p:nvGraphicFramePr>
        <p:xfrm>
          <a:off x="914400" y="838080"/>
          <a:ext cx="7238880" cy="5578560"/>
        </p:xfrm>
        <a:graphic>
          <a:graphicData uri="http://schemas.openxmlformats.org/drawingml/2006/table">
            <a:tbl>
              <a:tblPr/>
              <a:tblGrid>
                <a:gridCol w="814320"/>
                <a:gridCol w="4524480"/>
                <a:gridCol w="190008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20120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xed Personal Allowance (FP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DO(A) – Rs.925/-</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42" name=""/>
          <p:cNvGraphicFramePr/>
          <p:nvPr/>
        </p:nvGraphicFramePr>
        <p:xfrm>
          <a:off x="914400" y="838080"/>
          <a:ext cx="7086600" cy="17956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velopment Officers Gr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5"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76320" y="141768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 name=""/>
          <p:cNvGraphicFramePr/>
          <p:nvPr/>
        </p:nvGraphicFramePr>
        <p:xfrm>
          <a:off x="1523880" y="1870200"/>
          <a:ext cx="5131080" cy="1482480"/>
        </p:xfrm>
        <a:graphic>
          <a:graphicData uri="http://schemas.openxmlformats.org/drawingml/2006/table">
            <a:tbl>
              <a:tblPr/>
              <a:tblGrid>
                <a:gridCol w="1143000"/>
                <a:gridCol w="3988080"/>
              </a:tblGrid>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97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7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152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4315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48" name="TextBox 4"/>
          <p:cNvSpPr/>
          <p:nvPr/>
        </p:nvSpPr>
        <p:spPr>
          <a:xfrm>
            <a:off x="609480" y="3516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49" name=""/>
          <p:cNvGraphicFramePr/>
          <p:nvPr/>
        </p:nvGraphicFramePr>
        <p:xfrm>
          <a:off x="1143000" y="41148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50" name="TextBox 6"/>
          <p:cNvSpPr/>
          <p:nvPr/>
        </p:nvSpPr>
        <p:spPr>
          <a:xfrm>
            <a:off x="685800" y="60595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Officers under Suspension – May be allowed fixation and arrears may be paid and subsistence allowance revised</a:t>
            </a:r>
            <a:endParaRPr b="0" lang="en-US" sz="1800" spc="-1" strike="noStrike">
              <a:solidFill>
                <a:srgbClr val="000000"/>
              </a:solidFill>
              <a:latin typeface="Calibri"/>
            </a:endParaRPr>
          </a:p>
        </p:txBody>
      </p:sp>
      <p:sp>
        <p:nvSpPr>
          <p:cNvPr id="151" name="TextBox 1"/>
          <p:cNvSpPr/>
          <p:nvPr/>
        </p:nvSpPr>
        <p:spPr>
          <a:xfrm>
            <a:off x="152280" y="152280"/>
            <a:ext cx="723924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mpsum medical benefit (Basic Pay as on 1</a:t>
            </a:r>
            <a:r>
              <a:rPr b="0" lang="en-US" sz="2000" spc="-1" strike="noStrike" baseline="30000">
                <a:solidFill>
                  <a:srgbClr val="000000"/>
                </a:solidFill>
                <a:latin typeface="Calibri"/>
              </a:rPr>
              <a:t>st</a:t>
            </a:r>
            <a:r>
              <a:rPr b="0" lang="en-US" sz="2000" spc="-1" strike="noStrike">
                <a:solidFill>
                  <a:srgbClr val="000000"/>
                </a:solidFill>
                <a:latin typeface="Calibri"/>
              </a:rPr>
              <a:t> Jan) –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sic Pay upto Rs.72375/-    - Rs.123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bove Basic Pay Rs.72375/- - Rs.196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1.  ADMINISTRATIVE INSTRUCTIONS ON WAGE REVISION – CLASS III &amp; IV</a:t>
            </a:r>
            <a:endParaRPr b="0" lang="en-US" sz="2800" spc="-1" strike="noStrike">
              <a:solidFill>
                <a:srgbClr val="000000"/>
              </a:solidFill>
              <a:latin typeface="Calibri Light"/>
            </a:endParaRPr>
          </a:p>
        </p:txBody>
      </p:sp>
      <p:sp>
        <p:nvSpPr>
          <p:cNvPr id="153"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mendment Scheme w.e.f. 01/08/2017</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le only for existing / retired / VRS / expired employees during the period from 01/08/2017  (Resigned/terminated not eligible for wage revision)</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ot eligible for  employees appointed on contractual basis</a:t>
            </a:r>
            <a:endParaRPr b="0" lang="en-US" sz="24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000000"/>
                </a:solidFill>
                <a:latin typeface="Calibri"/>
              </a:rPr>
              <a:t>Lumpsum medical –01/01/2020</a:t>
            </a:r>
            <a:endParaRPr b="0" lang="en-US" sz="2800" spc="-1" strike="noStrike">
              <a:solidFill>
                <a:srgbClr val="000000"/>
              </a:solidFill>
              <a:latin typeface="Calibri"/>
            </a:endParaRPr>
          </a:p>
          <a:p>
            <a:pPr marL="457200" indent="-4572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mployee – Employee of the Company other than casual, work-charged (specific work) and contingent staff (temporary or need bas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amily – wife or husband, dependent children, </a:t>
            </a:r>
            <a:r>
              <a:rPr b="1" lang="en-US" sz="2400" spc="-1" strike="noStrike">
                <a:solidFill>
                  <a:srgbClr val="000000"/>
                </a:solidFill>
                <a:latin typeface="Calibri"/>
              </a:rPr>
              <a:t>any other person wholly dependent on the employe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ard Sub-committee (HR) – A sub-committee of Directors of the Board nominated by the Boar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blic Servant – as mentioned in Section 21 of IP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xual Harassment &amp; work place – as defined under ‘the sexual harassment of women at workplace (Prevention, prohibition and Redressal) Act, 2013</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000" y="75960"/>
            <a:ext cx="9067680" cy="6629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tagnation increments :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55"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9d18e"/>
                    </a:solidFill>
                  </a:tcPr>
                </a:tc>
              </a:tr>
              <a:tr h="37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r.Asst/Ste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6 (once in 3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9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nce in 2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156" name="TextBox 1"/>
          <p:cNvSpPr/>
          <p:nvPr/>
        </p:nvSpPr>
        <p:spPr>
          <a:xfrm>
            <a:off x="304920" y="2209680"/>
            <a:ext cx="65530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Assistants</a:t>
            </a:r>
            <a:endParaRPr b="0" lang="en-US" sz="1800" spc="-1" strike="noStrike">
              <a:solidFill>
                <a:srgbClr val="000000"/>
              </a:solidFill>
              <a:latin typeface="Calibri"/>
            </a:endParaRPr>
          </a:p>
        </p:txBody>
      </p:sp>
      <p:sp>
        <p:nvSpPr>
          <p:cNvPr id="157" name="TextBox 4"/>
          <p:cNvSpPr/>
          <p:nvPr/>
        </p:nvSpPr>
        <p:spPr>
          <a:xfrm>
            <a:off x="685800" y="2666880"/>
            <a:ext cx="762012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 graduated on or after 01/01/1973 but before 01/08/2007 &amp; not reached maximum of the scale shall be granted maximum 2  incre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increment if the basic pay of the employee is Rs.59765</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 allowance can be paid to Assistants if reached maximum and graduated before 01/08/2007</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year – Rs.920,       2</a:t>
            </a:r>
            <a:r>
              <a:rPr b="0" lang="en-US" sz="1800" spc="-1" strike="noStrike" baseline="30000">
                <a:solidFill>
                  <a:srgbClr val="000000"/>
                </a:solidFill>
                <a:latin typeface="Calibri"/>
              </a:rPr>
              <a:t>nd</a:t>
            </a:r>
            <a:r>
              <a:rPr b="0" lang="en-US" sz="1800" spc="-1" strike="noStrike">
                <a:solidFill>
                  <a:srgbClr val="000000"/>
                </a:solidFill>
                <a:latin typeface="Calibri"/>
              </a:rPr>
              <a:t> year – Rs.1625</a:t>
            </a:r>
            <a:endParaRPr b="0" lang="en-US" sz="1800" spc="-1" strike="noStrike">
              <a:solidFill>
                <a:srgbClr val="000000"/>
              </a:solidFill>
              <a:latin typeface="Calibri"/>
            </a:endParaRPr>
          </a:p>
        </p:txBody>
      </p:sp>
      <p:sp>
        <p:nvSpPr>
          <p:cNvPr id="158" name="TextBox 5"/>
          <p:cNvSpPr/>
          <p:nvPr/>
        </p:nvSpPr>
        <p:spPr>
          <a:xfrm>
            <a:off x="457200" y="4964040"/>
            <a:ext cx="78487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Record Clerks – Rs.6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51920" y="-152640"/>
            <a:ext cx="9068040" cy="70866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House Rent Allowance</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Employees provided leased accommodation – No HRA.  License Fee @ 0.50% of minimum basic pay of the revised scale w.e.f 01/11/2022 is deducted.</a:t>
            </a:r>
            <a:endParaRPr b="0" lang="en-US" sz="20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0" name=""/>
          <p:cNvGraphicFramePr/>
          <p:nvPr/>
        </p:nvGraphicFramePr>
        <p:xfrm>
          <a:off x="533520" y="609480"/>
          <a:ext cx="8076960" cy="4211640"/>
        </p:xfrm>
        <a:graphic>
          <a:graphicData uri="http://schemas.openxmlformats.org/drawingml/2006/table">
            <a:tbl>
              <a:tblPr/>
              <a:tblGrid>
                <a:gridCol w="907920"/>
                <a:gridCol w="4476600"/>
                <a:gridCol w="2692440"/>
              </a:tblGrid>
              <a:tr h="370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8% of pay subject to maximum of Rs.6620/- per month (Minimum Rs.14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 Minimum Rs.1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5960" y="151920"/>
            <a:ext cx="8915400" cy="6629400"/>
          </a:xfrm>
          <a:prstGeom prst="rect">
            <a:avLst/>
          </a:prstGeom>
          <a:noFill/>
          <a:ln w="0">
            <a:noFill/>
          </a:ln>
        </p:spPr>
        <p:txBody>
          <a:bodyPr anchor="t">
            <a:noAutofit/>
          </a:bodyPr>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y Compensatory Allowance (CCA)</a:t>
            </a:r>
            <a:endParaRPr b="0" lang="en-US" sz="1800" spc="-1" strike="noStrike">
              <a:solidFill>
                <a:srgbClr val="000000"/>
              </a:solidFill>
              <a:latin typeface="Calibri"/>
            </a:endParaRPr>
          </a:p>
          <a:p>
            <a:pPr>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 4 classes viz., Metro, Class A, B &amp; C</a:t>
            </a:r>
            <a:endParaRPr b="0" lang="en-US" sz="1800" spc="-1" strike="noStrike">
              <a:solidFill>
                <a:srgbClr val="000000"/>
              </a:solidFill>
              <a:latin typeface="Calibri"/>
            </a:endParaRPr>
          </a:p>
        </p:txBody>
      </p:sp>
      <p:graphicFrame>
        <p:nvGraphicFramePr>
          <p:cNvPr id="162"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2873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 of pay subject to a maximum of Rs.1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0447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pay subject to a maximum of Rs.146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528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pay subject to a maximum of Rs.1255/- per</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5079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304920"/>
            <a:ext cx="8229600" cy="58212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nctional Allowance – Employee can draw only one F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4" name=""/>
          <p:cNvGraphicFramePr/>
          <p:nvPr/>
        </p:nvGraphicFramePr>
        <p:xfrm>
          <a:off x="685800" y="925560"/>
          <a:ext cx="7543800" cy="5653080"/>
        </p:xfrm>
        <a:graphic>
          <a:graphicData uri="http://schemas.openxmlformats.org/drawingml/2006/table">
            <a:tbl>
              <a:tblPr/>
              <a:tblGrid>
                <a:gridCol w="685800"/>
                <a:gridCol w="5638680"/>
                <a:gridCol w="1219320"/>
              </a:tblGrid>
              <a:tr h="1447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Subordinate Staff engaged in either as Key Holder or for carrying cash to or from Bank, as his regular and main function, where the amount of cash carried during a calendar month is 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Calibri"/>
                        </a:rPr>
                        <a:t>Rs. 100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1872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ther Subordinate Staff working as Liftmen, Machine Operators, Head Peons, Jamadars, Daftaries, AC Plant Operators and Heavy Vehicle Driver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16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14637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i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ssistant (or Senior Assistant, in the event of non-availability of Assistant) engaged in handling cash in an office, as his regular and main function, where the amount of cash transactions during a calendar month is</a:t>
                      </a:r>
                      <a:endParaRPr b="0" lang="en-US" sz="16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ordinarily Rs. 25,000/- or mor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212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i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elex Operators, Punch Card Operators, Unit Record Machine Operators and Comptists, who were assigned these functions before 1st day of January, 200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60/-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639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v)</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tenographer to Chairman-cum-Managing Director, Scale VII, Scale VI and equivalent posit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Rs. 75/- p.m.</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51920" y="75960"/>
            <a:ext cx="8534520" cy="6049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graphicFrame>
        <p:nvGraphicFramePr>
          <p:cNvPr id="166" name=""/>
          <p:cNvGraphicFramePr/>
          <p:nvPr/>
        </p:nvGraphicFramePr>
        <p:xfrm>
          <a:off x="457200" y="609480"/>
          <a:ext cx="8229600" cy="6096240"/>
        </p:xfrm>
        <a:graphic>
          <a:graphicData uri="http://schemas.openxmlformats.org/drawingml/2006/table">
            <a:tbl>
              <a:tblPr/>
              <a:tblGrid>
                <a:gridCol w="609480"/>
                <a:gridCol w="5791320"/>
                <a:gridCol w="1828800"/>
              </a:tblGrid>
              <a:tr h="118908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17377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6404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79784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r Institute of Cost and Works Accountant:</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7311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n completion of Master of Business Administration of a recognised University or Institution (AICTE approved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1920"/>
            <a:ext cx="8229600" cy="6705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xed Personal Allowance (FPA)</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68" name=""/>
          <p:cNvGraphicFramePr/>
          <p:nvPr/>
        </p:nvGraphicFramePr>
        <p:xfrm>
          <a:off x="914400" y="838080"/>
          <a:ext cx="7086600" cy="267660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43992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nior Assistant/Steno/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ord Cler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8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4395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ri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441360">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Other Subordinate Staf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52280" y="151920"/>
            <a:ext cx="8763120" cy="6629400"/>
          </a:xfrm>
          <a:prstGeom prst="rect">
            <a:avLst/>
          </a:prstGeom>
          <a:noFill/>
          <a:ln w="0">
            <a:noFill/>
          </a:ln>
        </p:spPr>
        <p:txBody>
          <a:bodyPr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ransport Allowance – Rs.68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ashing Allowance for Cl IV – Rs.355 per month</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vident Fund –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appointed before 01/01/2004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ncludes FPA also)</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between 01/01/2004  - 10% of basic pay</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and 31/03/201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mployees joined after                      - No recovery.  Covered</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31/03/2010                                            under NP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umpsum medical benefit (Basic Pay as on 1</a:t>
            </a:r>
            <a:r>
              <a:rPr b="0" lang="en-US" sz="2400" spc="-1" strike="noStrike" baseline="30000">
                <a:solidFill>
                  <a:srgbClr val="000000"/>
                </a:solidFill>
                <a:latin typeface="Calibri"/>
              </a:rPr>
              <a:t>st</a:t>
            </a:r>
            <a:r>
              <a:rPr b="0" lang="en-US" sz="2400" spc="-1" strike="noStrike">
                <a:solidFill>
                  <a:srgbClr val="000000"/>
                </a:solidFill>
                <a:latin typeface="Calibri"/>
              </a:rPr>
              <a:t> Jan) – Rs.9800/-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Functional Allowance to Audit Assistant – Rs.1200/-</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S.No.</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ate</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91692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1</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201420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2</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1465560">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3</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2"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2250/-</a:t>
            </a:r>
            <a:endParaRPr b="0" lang="en-US" sz="1800" spc="-1" strike="noStrike">
              <a:solidFill>
                <a:srgbClr val="000000"/>
              </a:solidFill>
              <a:latin typeface="Calibri"/>
            </a:endParaRPr>
          </a:p>
        </p:txBody>
      </p:sp>
      <p:sp>
        <p:nvSpPr>
          <p:cNvPr id="173"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533520" y="15228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 20/11/1988 &amp; Group Term Linked Insurance (GTIS) – GTIS – 01/10/199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Category</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ffffff"/>
                          </a:solidFill>
                          <a:latin typeface="Calibri"/>
                        </a:rPr>
                        <a:t>Revised Basic Pay range (Rs.)</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697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I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75351 to 928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I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r h="37152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VI</a:t>
                      </a:r>
                      <a:endParaRPr b="0" lang="en-US" sz="13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Up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bl>
          </a:graphicData>
        </a:graphic>
      </p:graphicFrame>
      <p:sp>
        <p:nvSpPr>
          <p:cNvPr id="176"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77"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0ad47"/>
                    </a:solidFill>
                  </a:tcPr>
                </a:tc>
              </a:tr>
              <a:tr h="3708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3cf"/>
                    </a:solidFill>
                  </a:tcPr>
                </a:tc>
              </a:tr>
              <a:tr h="36900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1e9"/>
                    </a:solidFill>
                  </a:tcPr>
                </a:tc>
              </a:tr>
              <a:tr h="370080">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c>
                  <a:txBody>
                    <a:bodyPr lIns="90000" rIns="90000" tIns="46800" bIns="468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3cf"/>
                    </a:solidFill>
                  </a:tcPr>
                </a:tc>
              </a:tr>
            </a:tbl>
          </a:graphicData>
        </a:graphic>
      </p:graphicFrame>
      <p:sp>
        <p:nvSpPr>
          <p:cNvPr id="178"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loyee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EAVE RULES</a:t>
            </a:r>
            <a:endParaRPr b="0" lang="en-US" sz="4400" spc="-1" strike="noStrike">
              <a:solidFill>
                <a:srgbClr val="000000"/>
              </a:solidFill>
              <a:latin typeface="Calibri"/>
            </a:endParaRPr>
          </a:p>
        </p:txBody>
      </p:sp>
      <p:sp>
        <p:nvSpPr>
          <p:cNvPr id="180" name="Text Box 2"/>
          <p:cNvSpPr/>
          <p:nvPr/>
        </p:nvSpPr>
        <p:spPr>
          <a:xfrm>
            <a:off x="457200" y="1143000"/>
            <a:ext cx="8229600" cy="51894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lubbing of leave not permitted except</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examn leave/lop/qua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P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lop/sl/ml/exam leav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SL </a:t>
            </a:r>
            <a:r>
              <a:rPr b="0"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pl/lop/ml/qurantin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exam leave </a:t>
            </a:r>
            <a:r>
              <a:rPr b="1" lang="en-US" sz="3200" spc="-1" strike="noStrike">
                <a:solidFill>
                  <a:srgbClr val="ff0000"/>
                </a:solidFill>
                <a:latin typeface="Calibri"/>
                <a:ea typeface="Microsoft YaHei"/>
              </a:rPr>
              <a:t>with</a:t>
            </a:r>
            <a:r>
              <a:rPr b="0" lang="en-US" sz="2800" spc="-1" strike="noStrike">
                <a:solidFill>
                  <a:srgbClr val="000000"/>
                </a:solidFill>
                <a:latin typeface="Calibri"/>
                <a:ea typeface="Microsoft YaHei"/>
              </a:rPr>
              <a:t> cl/pl/ml/lop/quarantine</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12 days CL, 2 days RH max. CL at a time 5</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of year –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30 – no. of days of cl</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3. General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Every employee shall at all times:</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 maintain absolute integri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 maintain devotion to duty ;</a:t>
            </a: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ii) do nothing which is unbecoming of a public servan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v) conform to and abide by these Rules given to hi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Calibri"/>
              </a:rPr>
              <a:t>Rule 4 – Misconduct</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theft, fraud or dishonesty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aking bribes or illegal gratifiction</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ossession of pecuniary resources or property disproportionate to the known sources of income</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urnishing false information</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2Leave rules (contd)</a:t>
            </a:r>
            <a:endParaRPr b="0" lang="en-US" sz="4400" spc="-1" strike="noStrike">
              <a:solidFill>
                <a:srgbClr val="000000"/>
              </a:solidFill>
              <a:latin typeface="Calibri"/>
            </a:endParaRPr>
          </a:p>
        </p:txBody>
      </p:sp>
      <p:sp>
        <p:nvSpPr>
          <p:cNvPr id="18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lop will not affect calculation of C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half day CL for max. of 6 occasion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intervening holidays between 2 CL not to be counted as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RH – 2days – to be informed at the beginning of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L – 1 day for every 11 days of dut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duty excludes lop,sl,ml</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3LEAVE RULES (CONTD)</a:t>
            </a:r>
            <a:br>
              <a:rPr sz="4400"/>
            </a:br>
            <a:endParaRPr b="0" lang="en-US" sz="4400" spc="-1" strike="noStrike">
              <a:solidFill>
                <a:srgbClr val="000000"/>
              </a:solidFill>
              <a:latin typeface="Calibri"/>
            </a:endParaRPr>
          </a:p>
        </p:txBody>
      </p:sp>
      <p:sp>
        <p:nvSpPr>
          <p:cNvPr id="184"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L min.6 days max. 120 days at a time. accumulation max. upto 270 day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hort term PL for 2 occasion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L – 30 days (hf basis). max. 240 days accumulation. medical certificate required for sanction of SL</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12 = no. of days of SL credited</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4LEAVE RULES CONTD..)</a:t>
            </a:r>
            <a:endParaRPr b="0" lang="en-US" sz="4400" spc="-1" strike="noStrike">
              <a:solidFill>
                <a:srgbClr val="000000"/>
              </a:solidFill>
              <a:latin typeface="Calibri"/>
            </a:endParaRPr>
          </a:p>
        </p:txBody>
      </p:sp>
      <p:sp>
        <p:nvSpPr>
          <p:cNvPr id="186" name="Text Box 2"/>
          <p:cNvSpPr/>
          <p:nvPr/>
        </p:nvSpPr>
        <p:spPr>
          <a:xfrm>
            <a:off x="457200" y="1600200"/>
            <a:ext cx="8229600" cy="4879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SL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on half pay basis for 6 month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thirteen major disease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 SL to be exhauste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L – allowed for female employees with less than 3 living children</a:t>
            </a:r>
            <a:endParaRPr b="0" lang="en-US" sz="32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ax. 180 days for each delivery and max. 12 months in service (incl. miscarriage leave)</a:t>
            </a: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5LEAVE RULES(CONTD)</a:t>
            </a:r>
            <a:br>
              <a:rPr sz="4400"/>
            </a:br>
            <a:endParaRPr b="0" lang="en-US" sz="4400" spc="-1" strike="noStrike">
              <a:solidFill>
                <a:srgbClr val="000000"/>
              </a:solidFill>
              <a:latin typeface="Calibri"/>
            </a:endParaRPr>
          </a:p>
        </p:txBody>
      </p:sp>
      <p:sp>
        <p:nvSpPr>
          <p:cNvPr id="188" name="Text Box 2"/>
          <p:cNvSpPr/>
          <p:nvPr/>
        </p:nvSpPr>
        <p:spPr>
          <a:xfrm>
            <a:off x="457200" y="1600200"/>
            <a:ext cx="8305920" cy="5029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iscarriage leave can be granted only if employee is entitled for ML (miscarriage means expulsion between 12 to 26 week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ax. 6 weeks.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doption leave – 2 months. allowed for female employee without child</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hild is below one year of age</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6LEAVE RULES</a:t>
            </a:r>
            <a:br>
              <a:rPr sz="4400"/>
            </a:br>
            <a:endParaRPr b="0" lang="en-US" sz="4400" spc="-1" strike="noStrike">
              <a:solidFill>
                <a:srgbClr val="000000"/>
              </a:solidFill>
              <a:latin typeface="Calibri"/>
            </a:endParaRPr>
          </a:p>
        </p:txBody>
      </p:sp>
      <p:sp>
        <p:nvSpPr>
          <p:cNvPr id="19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xam leave for insurance/ca/icwa/actuaries/london institute/mba.</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for date of exam and min. journey time</a:t>
            </a:r>
            <a:endParaRPr b="0" lang="en-US" sz="3200" spc="-1" strike="noStrike">
              <a:solidFill>
                <a:srgbClr val="000000"/>
              </a:solidFill>
              <a:latin typeface="Calibri"/>
            </a:endParaRPr>
          </a:p>
          <a:p>
            <a:pPr marL="331200" indent="-33120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quarantine leave – allowed if family of employee suffer from quarantine disease.  employee suffering from any such disease is not eligible for quarantine leave</a:t>
            </a:r>
            <a:endParaRPr b="0" lang="en-US" sz="32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7LEAVE RULES</a:t>
            </a:r>
            <a:endParaRPr b="0" lang="en-US" sz="4400" spc="-1" strike="noStrike">
              <a:solidFill>
                <a:srgbClr val="000000"/>
              </a:solidFill>
              <a:latin typeface="Calibri"/>
            </a:endParaRPr>
          </a:p>
        </p:txBody>
      </p:sp>
      <p:sp>
        <p:nvSpPr>
          <p:cNvPr id="1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leav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6 days for vasectomy/salpingectom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female employee puerperal and non puerperal sterilisa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 day – iucd insertion</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5 days camp duty for home guards</a:t>
            </a: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8LEAVE RULES</a:t>
            </a:r>
            <a:endParaRPr b="0" lang="en-US" sz="4400" spc="-1" strike="noStrike">
              <a:solidFill>
                <a:srgbClr val="000000"/>
              </a:solidFill>
              <a:latin typeface="Calibri"/>
            </a:endParaRPr>
          </a:p>
        </p:txBody>
      </p:sp>
      <p:sp>
        <p:nvSpPr>
          <p:cNvPr id="19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30 days for sports national or international level</a:t>
            </a:r>
            <a:r>
              <a:rPr b="0" lang="en-US" sz="2800" spc="-1" strike="noStrike">
                <a:solidFill>
                  <a:srgbClr val="000000"/>
                </a:solidFill>
                <a:latin typeface="Calibri"/>
                <a:ea typeface="Microsoft YaHei"/>
              </a:rPr>
              <a:t>(incl.mounteneering</a:t>
            </a:r>
            <a:r>
              <a:rPr b="0" lang="en-US" sz="3200" spc="-1" strike="noStrike">
                <a:solidFill>
                  <a:srgbClr val="000000"/>
                </a:solidFill>
                <a:latin typeface="Calibri"/>
                <a:ea typeface="Microsoft YaHei"/>
              </a:rPr>
              <a: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0 days for local sports even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articipation includes referee/umpire not managers/office bearers</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25 days for republic day parad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blood donation – 10 days in a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territorial army</a:t>
            </a: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280"/>
            <a:ext cx="8229600" cy="59738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aternity leave – male employee having less than 2 living children may be granted 15 days leave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eave can be availed during confinement of his wife, commencing 15 days before and ending 6 months after date of delivery. </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an be availed for adoption of child less than 1 year.  Can be combined with any other leave except CL</a:t>
            </a: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9. LEAVE ON LOSS OF PAY</a:t>
            </a:r>
            <a:endParaRPr b="0" lang="en-US" sz="4400" spc="-1" strike="noStrike">
              <a:solidFill>
                <a:srgbClr val="000000"/>
              </a:solidFill>
              <a:latin typeface="Calibri"/>
            </a:endParaRPr>
          </a:p>
        </p:txBody>
      </p:sp>
      <p:sp>
        <p:nvSpPr>
          <p:cNvPr id="197" name="Text Box 2"/>
          <p:cNvSpPr/>
          <p:nvPr/>
        </p:nvSpPr>
        <p:spPr>
          <a:xfrm>
            <a:off x="457200" y="1417680"/>
            <a:ext cx="8305920" cy="4948200"/>
          </a:xfrm>
          <a:prstGeom prst="rect">
            <a:avLst/>
          </a:prstGeom>
          <a:noFill/>
          <a:ln w="0">
            <a:noFill/>
          </a:ln>
        </p:spPr>
        <p:style>
          <a:lnRef idx="0"/>
          <a:fillRef idx="0"/>
          <a:effectRef idx="0"/>
          <a:fontRef idx="minor"/>
        </p:style>
        <p:txBody>
          <a:bodyPr lIns="90000" rIns="90000" tIns="46800" bIns="46800" anchor="t">
            <a:normAutofit fontScale="96000"/>
          </a:bodyPr>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an be granted when no leave is due</a:t>
            </a:r>
            <a:endParaRPr b="0" lang="en-US" sz="32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upto 90 days – reg. chief, upto 180 days –GM (for scale iv &amp; below) other cases - CMD</a:t>
            </a:r>
            <a:endParaRPr b="0" lang="en-US" sz="3200" spc="-1" strike="noStrike">
              <a:solidFill>
                <a:srgbClr val="000000"/>
              </a:solidFill>
              <a:latin typeface="Calibri"/>
            </a:endParaRPr>
          </a:p>
          <a:p>
            <a:pPr marL="324360" indent="-32436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lop will postpone the increment</a:t>
            </a:r>
            <a:endParaRPr b="0" lang="en-US" sz="2400" spc="-1" strike="noStrike">
              <a:solidFill>
                <a:srgbClr val="000000"/>
              </a:solidFill>
              <a:latin typeface="Calibri"/>
            </a:endParaRPr>
          </a:p>
          <a:p>
            <a:pPr marL="324360" indent="-32436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tudy leave – one year max. for doing management and allied subjects</a:t>
            </a:r>
            <a:endParaRPr b="0" lang="en-US" sz="32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in. 5 years of service should have been completed in the compan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CMD is the competent authority</a:t>
            </a:r>
            <a:endParaRPr b="0" lang="en-US" sz="2800" spc="-1" strike="noStrike">
              <a:solidFill>
                <a:srgbClr val="000000"/>
              </a:solidFill>
              <a:latin typeface="Calibri"/>
            </a:endParaRPr>
          </a:p>
          <a:p>
            <a:pPr marL="324360" indent="-32436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t applicable to scs staff</a:t>
            </a: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 TRAVEL RULES</a:t>
            </a:r>
            <a:endParaRPr b="0" lang="en-US" sz="4400" spc="-1" strike="noStrike">
              <a:solidFill>
                <a:srgbClr val="000000"/>
              </a:solidFill>
              <a:latin typeface="Calibri"/>
            </a:endParaRPr>
          </a:p>
        </p:txBody>
      </p:sp>
      <p:graphicFrame>
        <p:nvGraphicFramePr>
          <p:cNvPr id="199" name=""/>
          <p:cNvGraphicFramePr/>
          <p:nvPr/>
        </p:nvGraphicFramePr>
        <p:xfrm>
          <a:off x="457200" y="914400"/>
          <a:ext cx="8258040" cy="5821200"/>
        </p:xfrm>
        <a:graphic>
          <a:graphicData uri="http://schemas.openxmlformats.org/drawingml/2006/table">
            <a:tbl>
              <a:tblPr/>
              <a:tblGrid>
                <a:gridCol w="3505320"/>
                <a:gridCol w="1600200"/>
                <a:gridCol w="3152520"/>
              </a:tblGrid>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MOD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4050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V,VI, V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TRAIN</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V</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617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 II I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A/C IN </a:t>
                      </a:r>
                      <a:r>
                        <a:rPr b="0" lang="en-US" sz="1600" spc="-1" strike="noStrike">
                          <a:solidFill>
                            <a:srgbClr val="000000"/>
                          </a:solidFill>
                          <a:latin typeface="Calibri"/>
                          <a:ea typeface="Microsoft YaHei"/>
                        </a:rPr>
                        <a:t>RAJDHANI &amp; II AC OR I CLASS, NOT TO EXCEED 125% OF RAIL FARE IF AIR TRAVEL IS MADE, BY AIR IF SURFACE DISTANCE IS BEYOND 1000 KMS (FOR SC II AND III ONLY)</a:t>
                      </a: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706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 – BASIC 36440  AND ABOV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AC/I CLASS/3</a:t>
                      </a:r>
                      <a:r>
                        <a:rPr b="0" lang="en-US" sz="1800" spc="-1" strike="noStrike" baseline="30000">
                          <a:solidFill>
                            <a:srgbClr val="000000"/>
                          </a:solidFill>
                          <a:latin typeface="Calibri"/>
                          <a:ea typeface="Microsoft YaHei"/>
                        </a:rPr>
                        <a:t>RD</a:t>
                      </a:r>
                      <a:r>
                        <a:rPr b="0" lang="en-US" sz="1800" spc="-1" strike="noStrike">
                          <a:solidFill>
                            <a:srgbClr val="000000"/>
                          </a:solidFill>
                          <a:latin typeface="Calibri"/>
                          <a:ea typeface="Microsoft YaHei"/>
                        </a:rPr>
                        <a:t> AC IN RAJDHAN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7476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BELOW 3644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CLASS. CLERICAL EMPLOYEES PERMITTED TO GO BY I CLASS/II AC WHERE NIGHT JOURNEY IS INVOLVED</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112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TOUR STARTS FROM SCHEDULED DEPARTURE TIM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52280" y="151920"/>
            <a:ext cx="8839440" cy="66294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cting in a manner prejudicial to the interest of the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wilful insubordination or disobedie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without leave or over-staying sanctioned leave – </a:t>
            </a:r>
            <a:r>
              <a:rPr b="1" lang="en-US" sz="2400" spc="-1" strike="noStrike" u="sng">
                <a:solidFill>
                  <a:srgbClr val="000000"/>
                </a:solidFill>
                <a:uFillTx/>
                <a:latin typeface="Calibri"/>
              </a:rPr>
              <a:t>for more than 4 consequetive days</a:t>
            </a:r>
            <a:r>
              <a:rPr b="0" lang="en-US" sz="2400" spc="-1" strike="noStrike">
                <a:solidFill>
                  <a:srgbClr val="000000"/>
                </a:solidFill>
                <a:latin typeface="Calibri"/>
              </a:rPr>
              <a:t> without sufficient grounds or proper satisfactory explanatio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abitual late or irregular attendan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glect of work or negligence in the performance of duty including malingering or slowing down of work</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amage to any property of compan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ference or tampering with any safety devic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runkenness or riotous or disorderly or indecent behaviour in the premis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gambling</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llection without the permission of the competent authoir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457200" y="0"/>
            <a:ext cx="8229600" cy="70956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2 TRAVEL RULES</a:t>
            </a:r>
            <a:endParaRPr b="0" lang="en-US" sz="4400" spc="-1" strike="noStrike">
              <a:solidFill>
                <a:srgbClr val="000000"/>
              </a:solidFill>
              <a:latin typeface="Calibri"/>
            </a:endParaRPr>
          </a:p>
        </p:txBody>
      </p:sp>
      <p:graphicFrame>
        <p:nvGraphicFramePr>
          <p:cNvPr id="201" name=""/>
          <p:cNvGraphicFramePr/>
          <p:nvPr/>
        </p:nvGraphicFramePr>
        <p:xfrm>
          <a:off x="457200" y="762120"/>
          <a:ext cx="8231040" cy="6662520"/>
        </p:xfrm>
        <a:graphic>
          <a:graphicData uri="http://schemas.openxmlformats.org/drawingml/2006/table">
            <a:tbl>
              <a:tblPr/>
              <a:tblGrid>
                <a:gridCol w="2743200"/>
                <a:gridCol w="2744640"/>
                <a:gridCol w="27432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LIMI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ONVEY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CTUALS –RES TO STATION TO AND FR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STRICTED TO HALT. ALLOWANCE FOR ‘C” 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2128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NCIDENTI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MAX. HALF OF ‘C’ CLASS FOR EACH COMP. JOURNEY. ONE INCIDENTAL PER CALENDER DA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N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4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HALTING ALLOW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2 HOURS AND ABOVE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00%</a:t>
                      </a:r>
                      <a:endParaRPr b="0" lang="en-US" sz="18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10987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alibri"/>
                          <a:ea typeface="Microsoft YaHei"/>
                        </a:rPr>
                        <a:t>FREE B/L- 25%; FREE B- 50% FREE LODGING – 75% IS ADMISSIBLE</a:t>
                      </a:r>
                      <a:endParaRPr b="0" lang="en-US" sz="16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6 HOURS TO 12 HOU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5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52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LESS THAN 6 HOURS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3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9486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REAK FAS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 – ACTUAL CLERICAL – (HOTEL CHARGE INCL. B/F</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3. TRAVEL RULES</a:t>
            </a:r>
            <a:endParaRPr b="0" lang="en-US" sz="4400" spc="-1" strike="noStrike">
              <a:solidFill>
                <a:srgbClr val="000000"/>
              </a:solidFill>
              <a:latin typeface="Calibri"/>
            </a:endParaRPr>
          </a:p>
        </p:txBody>
      </p:sp>
      <p:sp>
        <p:nvSpPr>
          <p:cNvPr id="203" name="Text Box 2"/>
          <p:cNvSpPr/>
          <p:nvPr/>
        </p:nvSpPr>
        <p:spPr>
          <a:xfrm>
            <a:off x="228600" y="685800"/>
            <a:ext cx="8763120" cy="61722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ON TRAINING – UPTO 180 DAYS – FULL RATE BEYOND THAT HALF RATE</a:t>
            </a: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HALTING ALLOWANCE REVISED FROM 05/01/2017</a:t>
            </a:r>
            <a:endParaRPr b="0" lang="en-US" sz="20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4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N TOUR- IF CL-NO H.A, IF SICK LEAVE – NO H.A,RETURN JOURNEY FARE ALLOWED</a:t>
            </a:r>
            <a:endParaRPr b="0" lang="en-US" sz="2000" spc="-1" strike="noStrike">
              <a:solidFill>
                <a:srgbClr val="000000"/>
              </a:solidFill>
              <a:latin typeface="Calibri"/>
            </a:endParaRPr>
          </a:p>
          <a:p>
            <a:pPr marL="338040" indent="-338040">
              <a:lnSpc>
                <a:spcPct val="100000"/>
              </a:lnSpc>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LOK ADALAT RS.1000/- AT THE PLACE OF POSTING,OTHER PLACES T.A,D.A ALLOWED + 500/- OUT OF POCKET EXPENSES</a:t>
            </a:r>
            <a:endParaRPr b="0" lang="en-US" sz="2000" spc="-1" strike="noStrike">
              <a:solidFill>
                <a:srgbClr val="000000"/>
              </a:solidFill>
              <a:latin typeface="Calibri"/>
            </a:endParaRPr>
          </a:p>
          <a:p>
            <a:pPr marL="338040" indent="-338040">
              <a:lnSpc>
                <a:spcPct val="10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p:txBody>
      </p:sp>
      <p:pic>
        <p:nvPicPr>
          <p:cNvPr id="204" name="Picture 2" descr=""/>
          <p:cNvPicPr/>
          <p:nvPr/>
        </p:nvPicPr>
        <p:blipFill>
          <a:blip r:embed="rId1"/>
          <a:stretch/>
        </p:blipFill>
        <p:spPr>
          <a:xfrm>
            <a:off x="304920" y="1981080"/>
            <a:ext cx="8686800" cy="28227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229600" cy="58212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Lodging expenses w.e.f 01/01/2013</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06" name="Picture 2" descr=""/>
          <p:cNvPicPr/>
          <p:nvPr/>
        </p:nvPicPr>
        <p:blipFill>
          <a:blip r:embed="rId1"/>
          <a:stretch/>
        </p:blipFill>
        <p:spPr>
          <a:xfrm>
            <a:off x="45720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5 LEAVE ENCASHMENT</a:t>
            </a:r>
            <a:endParaRPr b="0" lang="en-US" sz="4400" spc="-1" strike="noStrike">
              <a:solidFill>
                <a:srgbClr val="000000"/>
              </a:solidFill>
              <a:latin typeface="Calibri"/>
            </a:endParaRPr>
          </a:p>
        </p:txBody>
      </p:sp>
      <p:graphicFrame>
        <p:nvGraphicFramePr>
          <p:cNvPr id="208" name=""/>
          <p:cNvGraphicFramePr/>
          <p:nvPr/>
        </p:nvGraphicFramePr>
        <p:xfrm>
          <a:off x="457200" y="1600200"/>
          <a:ext cx="8231040" cy="2465280"/>
        </p:xfrm>
        <a:graphic>
          <a:graphicData uri="http://schemas.openxmlformats.org/drawingml/2006/table">
            <a:tbl>
              <a:tblPr/>
              <a:tblGrid>
                <a:gridCol w="4116240"/>
                <a:gridCol w="41148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S OF SALAR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a9d18e"/>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ERVI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TIREMEN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DEATH</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a9d18e"/>
                    </a:solidFill>
                  </a:tcPr>
                </a:tc>
              </a:tr>
              <a:tr h="379440">
                <a:tc gridSpan="2">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LLOWED ONCE IN  A BLOCK OF 2 YEARS. 15 DAYS CAN BE ENCASHED</a:t>
                      </a:r>
                      <a:endParaRPr b="0" lang="en-US" sz="1800" spc="-1" strike="noStrike">
                        <a:solidFill>
                          <a:srgbClr val="000000"/>
                        </a:solidFill>
                        <a:latin typeface="Calibri"/>
                      </a:endParaRPr>
                    </a:p>
                  </a:txBody>
                  <a:tcPr anchor="t" marL="90000" marR="90000">
                    <a:lnL w="720">
                      <a:solidFill>
                        <a:srgbClr val="ffffff"/>
                      </a:solidFill>
                    </a:lnL>
                    <a:lnR>
                      <a:noFill/>
                    </a:lnR>
                    <a:lnT w="720">
                      <a:solidFill>
                        <a:srgbClr val="ffffff"/>
                      </a:solidFill>
                    </a:lnT>
                    <a:lnB w="720">
                      <a:solidFill>
                        <a:srgbClr val="ffffff"/>
                      </a:solidFill>
                    </a:lnB>
                    <a:solidFill>
                      <a:srgbClr val="a9d18e"/>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09" name="TextBox 1"/>
          <p:cNvSpPr/>
          <p:nvPr/>
        </p:nvSpPr>
        <p:spPr>
          <a:xfrm>
            <a:off x="457200" y="4495680"/>
            <a:ext cx="678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employees – Even-Odd ye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 encashment – 240 days only</a:t>
            </a:r>
            <a:endParaRPr b="0" lang="en-US" sz="18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1 LTS</a:t>
            </a:r>
            <a:endParaRPr b="0" lang="en-US" sz="4400" spc="-1" strike="noStrike">
              <a:solidFill>
                <a:srgbClr val="000000"/>
              </a:solidFill>
              <a:latin typeface="Calibri"/>
            </a:endParaRPr>
          </a:p>
        </p:txBody>
      </p:sp>
      <p:sp>
        <p:nvSpPr>
          <p:cNvPr id="211"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onfirmed employees only</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fficers  odd year to even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lerical –even to odd year</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mployee,spouse,dependant children and dependant parents are eligible</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ce a block of 2 years. 3000km each way.For home town no limit.</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ntitled mode of journey as per tour</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2 LTS CONTINUED</a:t>
            </a:r>
            <a:endParaRPr b="0" lang="en-US" sz="4400" spc="-1" strike="noStrike">
              <a:solidFill>
                <a:srgbClr val="000000"/>
              </a:solidFill>
              <a:latin typeface="Calibri"/>
            </a:endParaRPr>
          </a:p>
        </p:txBody>
      </p:sp>
      <p:sp>
        <p:nvSpPr>
          <p:cNvPr id="213" name="Text Box 2"/>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ne block can be carried forward to next block- clubbing of two blocks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vel in two groups permitted but second group should avail in the block year in which the first group availed.Partial LTS carry forward not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fficers transferred to  N.E Region-LTS every year allowed</a:t>
            </a:r>
            <a:endParaRPr b="0" lang="en-US" sz="28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xtension of LTS facility for retired employees – not beyond 6 months. Should inform before retirement to avail this facility</a:t>
            </a:r>
            <a:endParaRPr b="0" lang="en-US" sz="28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TS CONTINUED</a:t>
            </a:r>
            <a:endParaRPr b="0" lang="en-US" sz="4400" spc="-1" strike="noStrike">
              <a:solidFill>
                <a:srgbClr val="000000"/>
              </a:solidFill>
              <a:latin typeface="Calibri"/>
            </a:endParaRPr>
          </a:p>
        </p:txBody>
      </p:sp>
      <p:sp>
        <p:nvSpPr>
          <p:cNvPr id="215" name="Text Box 2"/>
          <p:cNvSpPr/>
          <p:nvPr/>
        </p:nvSpPr>
        <p:spPr>
          <a:xfrm>
            <a:off x="457200" y="914400"/>
            <a:ext cx="8077320" cy="563868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fficers who are entitled to travel by air shall be entitled for reimbursement of full air fare for 3000kms(economy class) of surface distance each way for one block subject to the ceiling of twice the eligible class standard air fare of air india for delhi-trivandrum route.  The  benchmark fare would stand revised as &amp;when air india revises its fare for the said sector</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Dependency limit – rs.9000 + DR admissible thereon as per 7</a:t>
            </a:r>
            <a:r>
              <a:rPr b="0" lang="en-US" sz="2000" spc="-1" strike="noStrike" baseline="30000">
                <a:solidFill>
                  <a:srgbClr val="000000"/>
                </a:solidFill>
                <a:latin typeface="Calibri"/>
                <a:ea typeface="Microsoft YaHei"/>
              </a:rPr>
              <a:t>th</a:t>
            </a:r>
            <a:r>
              <a:rPr b="0" lang="en-US" sz="2000" spc="-1" strike="noStrike">
                <a:solidFill>
                  <a:srgbClr val="000000"/>
                </a:solidFill>
                <a:latin typeface="Calibri"/>
                <a:ea typeface="Microsoft YaHei"/>
              </a:rPr>
              <a:t> CPC (CENTRAL PAY COMMISSION). Presently 54% DR  </a:t>
            </a:r>
            <a:endParaRPr b="0" lang="en-US" sz="20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Tejas /vande bharat express fares allowed to employees who are entitled to travel rajdhani express</a:t>
            </a:r>
            <a:endParaRPr b="0" lang="en-US" sz="24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Special trains does not include luxury trains like deccan odessey, maharaja’s express, the golden chariot, royal rajasthan on wheels, palace on wheels, royal orient train, heritage on wheels, fairy queen express, etc</a:t>
            </a:r>
            <a:endParaRPr b="0" lang="en-US" sz="2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1TRANSFER BENEFITS</a:t>
            </a:r>
            <a:endParaRPr b="0" lang="en-US" sz="4400" spc="-1" strike="noStrike">
              <a:solidFill>
                <a:srgbClr val="000000"/>
              </a:solidFill>
              <a:latin typeface="Calibri"/>
            </a:endParaRPr>
          </a:p>
        </p:txBody>
      </p:sp>
      <p:sp>
        <p:nvSpPr>
          <p:cNvPr id="217" name="Text Box 2"/>
          <p:cNvSpPr/>
          <p:nvPr/>
        </p:nvSpPr>
        <p:spPr>
          <a:xfrm>
            <a:off x="228600" y="1600200"/>
            <a:ext cx="86868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mployee+spouse+children+parents+dependent brothers,sisters allowed travelling allowance</a:t>
            </a:r>
            <a:endParaRPr b="0" lang="en-US" sz="2800" spc="-1" strike="noStrike">
              <a:solidFill>
                <a:srgbClr val="000000"/>
              </a:solidFill>
              <a:latin typeface="Calibri"/>
            </a:endParaRPr>
          </a:p>
          <a:p>
            <a:pPr marL="338040" indent="-338040" algn="just">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econd trip to shift family within six months from  the date of relief from the place of transfer  or date of commencement of next academic year whichever is less</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Joining time one day for local(incl.Sat&amp;sun)</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ix days for outstation+journey time</a:t>
            </a:r>
            <a:endParaRPr b="0" lang="en-US" sz="2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2 TRANSFER BENEFITS</a:t>
            </a:r>
            <a:endParaRPr b="0" lang="en-US" sz="4400" spc="-1" strike="noStrike">
              <a:solidFill>
                <a:srgbClr val="000000"/>
              </a:solidFill>
              <a:latin typeface="Calibri"/>
            </a:endParaRPr>
          </a:p>
        </p:txBody>
      </p:sp>
      <p:sp>
        <p:nvSpPr>
          <p:cNvPr id="219" name="Text Box 2"/>
          <p:cNvSpPr/>
          <p:nvPr/>
        </p:nvSpPr>
        <p:spPr>
          <a:xfrm>
            <a:off x="45720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fer grant one month Basic plus FPA</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Allowed whether family shifted or not</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30 days halting allowance in lieu of housing maximum</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Baggage allowance/mid academic allowance for officer</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Packing charges forwarding charges </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 incidental/no pet animals/local conveyance allowed.</a:t>
            </a:r>
            <a:endParaRPr b="0" lang="en-US" sz="2800" spc="-1" strike="noStrike">
              <a:solidFill>
                <a:srgbClr val="000000"/>
              </a:solidFill>
              <a:latin typeface="Calibri"/>
            </a:endParaRPr>
          </a:p>
          <a:p>
            <a:pPr marL="338040" indent="-338040">
              <a:lnSpc>
                <a:spcPct val="100000"/>
              </a:lnSpc>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port of vehicle allowed</a:t>
            </a: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3 TRANSFER BENEFITS</a:t>
            </a:r>
            <a:endParaRPr b="0" lang="en-US" sz="4400" spc="-1" strike="noStrike">
              <a:solidFill>
                <a:srgbClr val="000000"/>
              </a:solidFill>
              <a:latin typeface="Calibri"/>
            </a:endParaRPr>
          </a:p>
        </p:txBody>
      </p:sp>
      <p:sp>
        <p:nvSpPr>
          <p:cNvPr id="22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 retirement/death</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ransfer grant/packing  </a:t>
            </a: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harges/forwarding charges paid </a:t>
            </a:r>
            <a:endParaRPr b="0" lang="en-US" sz="3200" spc="-1" strike="noStrike">
              <a:solidFill>
                <a:srgbClr val="000000"/>
              </a:solidFill>
              <a:latin typeface="Calibri"/>
            </a:endParaRPr>
          </a:p>
          <a:p>
            <a:pPr marL="338040" indent="-338040">
              <a:lnSpc>
                <a:spcPct val="100000"/>
              </a:lnSpc>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lnSpc>
                <a:spcPct val="100000"/>
              </a:lnSpc>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o be claimed within 6 months,no transfer grant for local shifting</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152280"/>
            <a:ext cx="845820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leeping while on du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which amounts to a criminal act involving moral turpitude (conduct that is considered contrary to community standards of justice, honesty or good morals eg., forgery, robbery, etc)</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bsence from the employee’s appointed place of work without permission or sufficient caus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moking within the premises of the establishment where it is prohibi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urchasing properties, machineries, stores, etc from or selling properties, machineries, stores, etc to the company without express permission in writing from the competent authority</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ommission of any act subversive of discipline or of good behaviour</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Content Placeholder 2"/>
          <p:cNvSpPr/>
          <p:nvPr/>
        </p:nvSpPr>
        <p:spPr>
          <a:xfrm>
            <a:off x="152280" y="228600"/>
            <a:ext cx="8763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oa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Actual expenses subject to 120 quintals by goods trai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Actual expenses subject to 90 quintals by goods train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ail</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VI and VII – Full 4 wheeler wagon or 60 quintals by goods train or 1 doub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V and V - Full 4 wheeler wagon or 60 quintals by goods train or 1 single contain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 to III – 40 quintals by goods trai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cilliary expenses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acking charges / loading and unloading expenses and incidental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16000, Scale I to III – Rs.12000 and other than Class I Officers – Rs.800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Content Placeholder 2"/>
          <p:cNvSpPr/>
          <p:nvPr/>
        </p:nvSpPr>
        <p:spPr>
          <a:xfrm>
            <a:off x="457200" y="304920"/>
            <a:ext cx="8229600" cy="5821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of local shifting expens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Limit – Maxium 60 Km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2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Rs.15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Other than Officers – Rs.10000</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ifting within the same compound – 25% of the above limi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LOANS AND ADVANCES</a:t>
            </a:r>
            <a:endParaRPr b="0" lang="en-US" sz="3000" spc="-1" strike="noStrike">
              <a:solidFill>
                <a:srgbClr val="000000"/>
              </a:solidFill>
              <a:latin typeface="Calibri Light"/>
            </a:endParaRPr>
          </a:p>
        </p:txBody>
      </p:sp>
      <p:sp>
        <p:nvSpPr>
          <p:cNvPr id="225" name=""/>
          <p:cNvSpPr txBox="1"/>
          <p:nvPr/>
        </p:nvSpPr>
        <p:spPr>
          <a:xfrm>
            <a:off x="457200" y="837720"/>
            <a:ext cx="8229600" cy="52880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Vehicle Loan – </a:t>
            </a:r>
            <a:endParaRPr b="0" lang="en-US" sz="21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igibility – Minimum 3 years service, once in 7 years not more than 3 such loan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fficers on Administrative side – Rs.75000 for two wheele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ass III &amp; IV including DO (A) – Rs.75000 for two wheeler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ate of interest – 5%</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6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 wheeler loan for Scale I &amp; II – Rs.2.5 lakhs – Upto Rs.1 lakh – 5% interest and 7.5% for balance amount</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 Scale III &amp; IV – Rs.4.5 lakh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120 equal installments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Housing Loan</a:t>
            </a:r>
            <a:endParaRPr b="0" lang="en-US" sz="3300" spc="-1" strike="noStrike">
              <a:solidFill>
                <a:srgbClr val="000000"/>
              </a:solidFill>
              <a:latin typeface="Calibri Light"/>
            </a:endParaRPr>
          </a:p>
        </p:txBody>
      </p:sp>
      <p:sp>
        <p:nvSpPr>
          <p:cNvPr id="227" name=""/>
          <p:cNvSpPr txBox="1"/>
          <p:nvPr/>
        </p:nvSpPr>
        <p:spPr>
          <a:xfrm>
            <a:off x="457200" y="762120"/>
            <a:ext cx="8229600" cy="58672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228" name="Picture 2" descr=""/>
          <p:cNvPicPr/>
          <p:nvPr/>
        </p:nvPicPr>
        <p:blipFill>
          <a:blip r:embed="rId1"/>
          <a:stretch/>
        </p:blipFill>
        <p:spPr>
          <a:xfrm>
            <a:off x="152280" y="701640"/>
            <a:ext cx="8839440" cy="59277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51920" y="228600"/>
            <a:ext cx="8534520" cy="640080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using loan on 3 occasions – first, second and second loan second tim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nterest – 5% for scheme loan and 7.5% for supplementary loan.  If not self occupied – additional 2.5% charged on scheme loan</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nimum 3 years service</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payment – Equal monthly installments or maximum 30 years of service whichever is les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employee has less than 15 years of service, he has the option of paying only the interest portion and principal amount will be deducted from his terminal dues.</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reclosure is permitted</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rm Insurance policy / Mortgage redemption policy included as collateral sec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3300" spc="-1" strike="noStrike">
                <a:solidFill>
                  <a:srgbClr val="000000"/>
                </a:solidFill>
                <a:latin typeface="Calibri Light"/>
              </a:rPr>
              <a:t>Housing Loan – Second Loan</a:t>
            </a:r>
            <a:endParaRPr b="0" lang="en-US" sz="3300" spc="-1" strike="noStrike">
              <a:solidFill>
                <a:srgbClr val="000000"/>
              </a:solidFill>
              <a:latin typeface="Calibri Light"/>
            </a:endParaRPr>
          </a:p>
        </p:txBody>
      </p:sp>
      <p:sp>
        <p:nvSpPr>
          <p:cNvPr id="231" name=""/>
          <p:cNvSpPr txBox="1"/>
          <p:nvPr/>
        </p:nvSpPr>
        <p:spPr>
          <a:xfrm>
            <a:off x="628560" y="1825200"/>
            <a:ext cx="7886880" cy="435132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econd Loan under Housing Loan Scheme for renovation or transfer of existing loan or acquiring second property subject to</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 </a:t>
            </a:r>
            <a:r>
              <a:rPr b="0" lang="en-IN" sz="2400" spc="-1" strike="noStrike">
                <a:solidFill>
                  <a:srgbClr val="000000"/>
                </a:solidFill>
                <a:latin typeface="Calibri"/>
              </a:rPr>
              <a:t>(a) not more than twice during the entire servic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b) applicable to both the properties</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Quantum – Employees current cadre eligibility for scheme loan minus scheme loan already sanctioned and current cadre eligibility of supplementary loan minus supplementary loan already sanctioned but not exceeding the actual cost.</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2400" spc="-1" strike="noStrike">
                <a:solidFill>
                  <a:srgbClr val="000000"/>
                </a:solidFill>
                <a:latin typeface="Calibri"/>
              </a:rPr>
              <a:t>Scheme + Supp loan sanctioned earlier + current second loan to be sanctioned shall not exceed current cadre elig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IN" sz="1800" spc="-1" strike="noStrike">
                <a:solidFill>
                  <a:srgbClr val="000000"/>
                </a:solidFill>
                <a:latin typeface="Calibri Light"/>
              </a:rPr>
              <a:t>Wherever employees availed education loan, the eligible amount of housing loan stands reduced to the extent of outstanding balance of the education loan.</a:t>
            </a:r>
            <a:br>
              <a:rPr sz="1800"/>
            </a:br>
            <a:br>
              <a:rPr sz="1800"/>
            </a:br>
            <a:r>
              <a:rPr b="0" lang="en-IN" sz="1800" spc="-1" strike="noStrike">
                <a:solidFill>
                  <a:srgbClr val="000000"/>
                </a:solidFill>
                <a:latin typeface="Calibri Light"/>
              </a:rPr>
              <a:t>Eligibility shall further subject to deduction towards housing loan shall not exceed 45% of the monthly gross salary</a:t>
            </a:r>
            <a:br>
              <a:rPr sz="1800"/>
            </a:br>
            <a:br>
              <a:rPr sz="1600"/>
            </a:br>
            <a:endParaRPr b="0" lang="en-US" sz="1800" spc="-1" strike="noStrike">
              <a:solidFill>
                <a:srgbClr val="000000"/>
              </a:solidFill>
              <a:latin typeface="Calibri Light"/>
            </a:endParaRPr>
          </a:p>
        </p:txBody>
      </p:sp>
      <p:pic>
        <p:nvPicPr>
          <p:cNvPr id="233" name="Picture 2" descr=""/>
          <p:cNvPicPr/>
          <p:nvPr/>
        </p:nvPicPr>
        <p:blipFill>
          <a:blip r:embed="rId1"/>
          <a:stretch/>
        </p:blipFill>
        <p:spPr>
          <a:xfrm>
            <a:off x="628560" y="2154240"/>
            <a:ext cx="7886880" cy="36939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240" y="228600"/>
            <a:ext cx="8458200" cy="632448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estival advance –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or one month gross salary for Officers whichever is les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40000 or one month gross salary for Class III / IV employe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20000 or one month basic + DA (on pro-rata basis) for PTE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Once in a calendar year</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10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atural Calamity advance –</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amage in the station of posting or in home town</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Rs.50000 – 25 equal installments</a:t>
            </a: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280"/>
            <a:ext cx="8229600" cy="6553440"/>
          </a:xfrm>
          <a:prstGeom prst="rect">
            <a:avLst/>
          </a:prstGeom>
          <a:noFill/>
          <a:ln w="0">
            <a:noFill/>
          </a:ln>
        </p:spPr>
        <p:txBody>
          <a:bodyPr anchor="t">
            <a:normAutofit/>
          </a:bodyPr>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sidential Accommodation (wef  01/04/2023)</a:t>
            </a: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36" name="Picture 1" descr=""/>
          <p:cNvPicPr/>
          <p:nvPr/>
        </p:nvPicPr>
        <p:blipFill>
          <a:blip r:embed="rId1"/>
          <a:stretch/>
        </p:blipFill>
        <p:spPr>
          <a:xfrm>
            <a:off x="609480" y="846000"/>
            <a:ext cx="7772400" cy="4792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Content Placeholder 3" descr=""/>
          <p:cNvPicPr/>
          <p:nvPr/>
        </p:nvPicPr>
        <p:blipFill>
          <a:blip r:embed="rId1"/>
          <a:stretch/>
        </p:blipFill>
        <p:spPr>
          <a:xfrm>
            <a:off x="457200" y="304920"/>
            <a:ext cx="8229600" cy="2589120"/>
          </a:xfrm>
          <a:prstGeom prst="rect">
            <a:avLst/>
          </a:prstGeom>
          <a:ln w="0">
            <a:noFill/>
          </a:ln>
        </p:spPr>
      </p:pic>
      <p:pic>
        <p:nvPicPr>
          <p:cNvPr id="238" name="Picture 4" descr=""/>
          <p:cNvPicPr/>
          <p:nvPr/>
        </p:nvPicPr>
        <p:blipFill>
          <a:blip r:embed="rId2"/>
          <a:stretch/>
        </p:blipFill>
        <p:spPr>
          <a:xfrm>
            <a:off x="457200" y="3363840"/>
            <a:ext cx="845820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3T10:52:43Z</dcterms:created>
  <dc:creator>Bhaskar</dc:creator>
  <dc:description/>
  <dc:language>en-US</dc:language>
  <cp:lastModifiedBy>Bha27422</cp:lastModifiedBy>
  <dcterms:modified xsi:type="dcterms:W3CDTF">2024-11-25T08:00:55Z</dcterms:modified>
  <cp:revision>473</cp:revision>
  <dc:subject/>
  <dc:title>PowerPoint Presentation</dc:title>
</cp:coreProperties>
</file>